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dt" idx="13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ftr" idx="14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 type="sldNum" idx="15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166D808-80C6-4FC3-872C-8F99F733BE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e Management Basics (planning, decision-making, organizing, delegation, communication flow, motivation) by explaining that they represent a range of strategies and tactics that G.M.s use to attain organizational go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rategy is a plan to achieve a long-range goal; a tactic is an action to attain a short-term objec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e examples of vision and/or mission statements of prominent hospitality industry firms with stud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your students if they are familiar with the mission statement of the company/ies where they have (do) work; if many students are not well aware of the vision and/or mission statement of their current firms, encourage them to find out what they are if they exi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examples of programmed and non-programmed deci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ss that non-programmed decision methods present more challenges and opportunities for creativity than do non-programmed decision metho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three possible decision-making approaches: traditional, recent, contempor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students agree with the advantages / disadvantages of the group decision-making process stated here? What are tho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student group decision-making processes by considering their experiences at their school doing group projects; do students feel that they become involved in the team decision-making process at their current employe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legation is the process of assigning power to subordinates so they can do work which a manager at a higher organizational level would otherwise do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inguish between formal and informal communication chann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apevine is an example of an informal communication channel; note that often informal communication channels can be accurate and can be used to assess employee perceptions of the hotel’s “current events.”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 communication means communication between individuals which flows up and down throughout the organization, while horizontal communication relates to communication between individuals at the same organizational lev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ss the importance of human relations in the hospitality industry, and explain how G.M.s can influence human relations between members, as well as between staff and g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relations are defined as skills needed to understand and effectively interact with other peopl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ching has a goal of helping staff members and the hotel team to reach their highest possible performance lev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gressive discipline is a process of negative discipline in which repeated infractions result in increasingly severe penalti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mporary management focuses on team behavior rather than upon individu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e what concerns (if any) students have regarding self-directed tea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at the G.M. represents the highest management level on the property, and that he / she directs the work of middle-level manager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five different management functions and relevant examples of activ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the importance of four skills outlined for the G.M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give three additional examples of each of these: conceptual, interpersonal, administrative and technic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how they can increase their skills in these are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owerment is defined as the act of granting authority to employees to make key decisions within those employees’ areas of responsibi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your students’ experiences in which an organization has empowered them; ask how they felt when this occurred, and how this impacted guest satisfaction. Ask students about times they wished they had been given such empowered, but were not (what happened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-engineering is re-organizing hotel departments or work sections within depart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whether the trend of the G.M. acting as facilitator and/or team leader rather than as “boss” will continue in hotel human resources practices in the futur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examples of autocratic and participative decision sty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520" y="6171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Hotel Operations Management, 1/e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©2004 Pearson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Hayes/Ninemeie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 Pearson Prentice Hall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Upper Saddle River, NJ 074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ftr" idx="10"/>
          </p:nvPr>
        </p:nvSpPr>
        <p:spPr>
          <a:xfrm>
            <a:off x="533520" y="6171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otel Operations Management, 1/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©2004 Pearson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ayes/Ninemei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 Pearson Prentice Hal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Upper Saddle River, NJ 074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ftr" idx="11"/>
          </p:nvPr>
        </p:nvSpPr>
        <p:spPr>
          <a:xfrm>
            <a:off x="533520" y="6171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otel Operations Management, 1/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©2004 Pearson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ayes/Ninemei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 Pearson Prentice Hal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Upper Saddle River, NJ 074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ftr" idx="12"/>
          </p:nvPr>
        </p:nvSpPr>
        <p:spPr>
          <a:xfrm>
            <a:off x="533520" y="6171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otel Operations Management, 1/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©2004 Pearson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ayes/Ninemei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 Pearson Prentice Hal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Upper Saddle River, NJ 074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ftr" idx="2"/>
          </p:nvPr>
        </p:nvSpPr>
        <p:spPr>
          <a:xfrm>
            <a:off x="533520" y="6171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otel Operations Management, 1/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©2004 Pearson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ayes/Ninemei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 Pearson Prentice Hal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Upper Saddle River, NJ 074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3"/>
          </p:nvPr>
        </p:nvSpPr>
        <p:spPr>
          <a:xfrm>
            <a:off x="533520" y="6171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otel Operations Management, 1/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©2004 Pearson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ayes/Ninemei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 Pearson Prentice Hal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Upper Saddle River, NJ 074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ftr" idx="4"/>
          </p:nvPr>
        </p:nvSpPr>
        <p:spPr>
          <a:xfrm>
            <a:off x="533520" y="6171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otel Operations Management, 1/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©2004 Pearson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ayes/Ninemei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 Pearson Prentice Hal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Upper Saddle River, NJ 074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ftr" idx="5"/>
          </p:nvPr>
        </p:nvSpPr>
        <p:spPr>
          <a:xfrm>
            <a:off x="533520" y="6171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otel Operations Management, 1/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©2004 Pearson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ayes/Ninemei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 Pearson Prentice Hal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Upper Saddle River, NJ 074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ftr" idx="6"/>
          </p:nvPr>
        </p:nvSpPr>
        <p:spPr>
          <a:xfrm>
            <a:off x="533520" y="6171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otel Operations Management, 1/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©2004 Pearson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ayes/Ninemei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 Pearson Prentice Hal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Upper Saddle River, NJ 074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ftr" idx="7"/>
          </p:nvPr>
        </p:nvSpPr>
        <p:spPr>
          <a:xfrm>
            <a:off x="533520" y="6171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otel Operations Management, 1/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©2004 Pearson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ayes/Ninemei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 Pearson Prentice Hal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Upper Saddle River, NJ 074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ftr" idx="8"/>
          </p:nvPr>
        </p:nvSpPr>
        <p:spPr>
          <a:xfrm>
            <a:off x="533520" y="6171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otel Operations Management, 1/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©2004 Pearson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ayes/Ninemei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 Pearson Prentice Hal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Upper Saddle River, NJ 074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ftr" idx="9"/>
          </p:nvPr>
        </p:nvSpPr>
        <p:spPr>
          <a:xfrm>
            <a:off x="533520" y="6171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otel Operations Management, 1/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©2004 Pearson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ayes/Ninemei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 Pearson Prentice Hal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Upper Saddle River, NJ 074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anagement and Supervision Skills for the G.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nagement Basics: Pla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Group 85"/>
          <p:cNvGrpSpPr/>
          <p:nvPr/>
        </p:nvGrpSpPr>
        <p:grpSpPr>
          <a:xfrm>
            <a:off x="590400" y="1066680"/>
            <a:ext cx="3962520" cy="843120"/>
            <a:chOff x="590400" y="1066680"/>
            <a:chExt cx="3962520" cy="843120"/>
          </a:xfrm>
        </p:grpSpPr>
        <p:sp>
          <p:nvSpPr>
            <p:cNvPr id="624" name="Rectangle 4"/>
            <p:cNvSpPr/>
            <p:nvPr/>
          </p:nvSpPr>
          <p:spPr>
            <a:xfrm>
              <a:off x="590400" y="1066680"/>
              <a:ext cx="3962520" cy="5716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Text Box 5"/>
            <p:cNvSpPr/>
            <p:nvPr/>
          </p:nvSpPr>
          <p:spPr>
            <a:xfrm>
              <a:off x="685800" y="1104840"/>
              <a:ext cx="382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Vis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Line 15"/>
            <p:cNvSpPr/>
            <p:nvPr/>
          </p:nvSpPr>
          <p:spPr>
            <a:xfrm>
              <a:off x="2514600" y="1676520"/>
              <a:ext cx="1440" cy="233280"/>
            </a:xfrm>
            <a:prstGeom prst="line">
              <a:avLst/>
            </a:prstGeom>
            <a:ln w="19080">
              <a:solidFill>
                <a:srgbClr val="ff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Group 86"/>
          <p:cNvGrpSpPr/>
          <p:nvPr/>
        </p:nvGrpSpPr>
        <p:grpSpPr>
          <a:xfrm>
            <a:off x="590400" y="1905120"/>
            <a:ext cx="3984840" cy="880920"/>
            <a:chOff x="590400" y="1905120"/>
            <a:chExt cx="3984840" cy="880920"/>
          </a:xfrm>
        </p:grpSpPr>
        <p:sp>
          <p:nvSpPr>
            <p:cNvPr id="628" name="Rectangle 80"/>
            <p:cNvSpPr/>
            <p:nvPr/>
          </p:nvSpPr>
          <p:spPr>
            <a:xfrm>
              <a:off x="590400" y="1905120"/>
              <a:ext cx="3962520" cy="5713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Text Box 8"/>
            <p:cNvSpPr/>
            <p:nvPr/>
          </p:nvSpPr>
          <p:spPr>
            <a:xfrm>
              <a:off x="750960" y="1928880"/>
              <a:ext cx="382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Mission State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Line 54"/>
            <p:cNvSpPr/>
            <p:nvPr/>
          </p:nvSpPr>
          <p:spPr>
            <a:xfrm>
              <a:off x="2514600" y="2552760"/>
              <a:ext cx="1440" cy="233280"/>
            </a:xfrm>
            <a:prstGeom prst="line">
              <a:avLst/>
            </a:prstGeom>
            <a:ln w="19080">
              <a:solidFill>
                <a:srgbClr val="ff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Group 87"/>
          <p:cNvGrpSpPr/>
          <p:nvPr/>
        </p:nvGrpSpPr>
        <p:grpSpPr>
          <a:xfrm>
            <a:off x="590400" y="2857680"/>
            <a:ext cx="3984840" cy="804600"/>
            <a:chOff x="590400" y="2857680"/>
            <a:chExt cx="3984840" cy="804600"/>
          </a:xfrm>
        </p:grpSpPr>
        <p:sp>
          <p:nvSpPr>
            <p:cNvPr id="632" name="Rectangle 81"/>
            <p:cNvSpPr/>
            <p:nvPr/>
          </p:nvSpPr>
          <p:spPr>
            <a:xfrm>
              <a:off x="590400" y="2857680"/>
              <a:ext cx="3962520" cy="5713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Text Box 11"/>
            <p:cNvSpPr/>
            <p:nvPr/>
          </p:nvSpPr>
          <p:spPr>
            <a:xfrm>
              <a:off x="750960" y="2881440"/>
              <a:ext cx="382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Long-Range Pl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Line 55"/>
            <p:cNvSpPr/>
            <p:nvPr/>
          </p:nvSpPr>
          <p:spPr>
            <a:xfrm>
              <a:off x="2514600" y="3429000"/>
              <a:ext cx="1440" cy="233280"/>
            </a:xfrm>
            <a:prstGeom prst="line">
              <a:avLst/>
            </a:prstGeom>
            <a:ln w="19080">
              <a:solidFill>
                <a:srgbClr val="ff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5" name="Group 90"/>
          <p:cNvGrpSpPr/>
          <p:nvPr/>
        </p:nvGrpSpPr>
        <p:grpSpPr>
          <a:xfrm>
            <a:off x="590400" y="4552920"/>
            <a:ext cx="3962520" cy="804600"/>
            <a:chOff x="590400" y="4552920"/>
            <a:chExt cx="3962520" cy="804600"/>
          </a:xfrm>
        </p:grpSpPr>
        <p:grpSp>
          <p:nvGrpSpPr>
            <p:cNvPr id="636" name="Group 89"/>
            <p:cNvGrpSpPr/>
            <p:nvPr/>
          </p:nvGrpSpPr>
          <p:grpSpPr>
            <a:xfrm>
              <a:off x="590400" y="4552920"/>
              <a:ext cx="3962520" cy="804600"/>
              <a:chOff x="590400" y="4552920"/>
              <a:chExt cx="3962520" cy="804600"/>
            </a:xfrm>
          </p:grpSpPr>
          <p:sp>
            <p:nvSpPr>
              <p:cNvPr id="637" name="Rectangle 83"/>
              <p:cNvSpPr/>
              <p:nvPr/>
            </p:nvSpPr>
            <p:spPr>
              <a:xfrm>
                <a:off x="590400" y="4552920"/>
                <a:ext cx="3962520" cy="571320"/>
              </a:xfrm>
              <a:prstGeom prst="rect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f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Line 57"/>
              <p:cNvSpPr/>
              <p:nvPr/>
            </p:nvSpPr>
            <p:spPr>
              <a:xfrm>
                <a:off x="2514600" y="5124240"/>
                <a:ext cx="1440" cy="233280"/>
              </a:xfrm>
              <a:prstGeom prst="line">
                <a:avLst/>
              </a:prstGeom>
              <a:ln w="19080">
                <a:solidFill>
                  <a:srgbClr val="ff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9" name="Text Box 22"/>
            <p:cNvSpPr/>
            <p:nvPr/>
          </p:nvSpPr>
          <p:spPr>
            <a:xfrm>
              <a:off x="728640" y="4624560"/>
              <a:ext cx="382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Operating Budg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Group 88"/>
          <p:cNvGrpSpPr/>
          <p:nvPr/>
        </p:nvGrpSpPr>
        <p:grpSpPr>
          <a:xfrm>
            <a:off x="590400" y="3657600"/>
            <a:ext cx="3962520" cy="861840"/>
            <a:chOff x="590400" y="3657600"/>
            <a:chExt cx="3962520" cy="861840"/>
          </a:xfrm>
        </p:grpSpPr>
        <p:sp>
          <p:nvSpPr>
            <p:cNvPr id="641" name="Rectangle 82"/>
            <p:cNvSpPr/>
            <p:nvPr/>
          </p:nvSpPr>
          <p:spPr>
            <a:xfrm>
              <a:off x="590400" y="3657600"/>
              <a:ext cx="3962520" cy="5716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Text Box 14"/>
            <p:cNvSpPr/>
            <p:nvPr/>
          </p:nvSpPr>
          <p:spPr>
            <a:xfrm>
              <a:off x="709560" y="3691080"/>
              <a:ext cx="382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Short-Range (Business) Pl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56"/>
            <p:cNvSpPr/>
            <p:nvPr/>
          </p:nvSpPr>
          <p:spPr>
            <a:xfrm>
              <a:off x="2514600" y="4286160"/>
              <a:ext cx="1440" cy="23328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Group 91"/>
          <p:cNvGrpSpPr/>
          <p:nvPr/>
        </p:nvGrpSpPr>
        <p:grpSpPr>
          <a:xfrm>
            <a:off x="590400" y="5410080"/>
            <a:ext cx="3962520" cy="571680"/>
            <a:chOff x="590400" y="5410080"/>
            <a:chExt cx="3962520" cy="571680"/>
          </a:xfrm>
        </p:grpSpPr>
        <p:sp>
          <p:nvSpPr>
            <p:cNvPr id="645" name="Rectangle 84"/>
            <p:cNvSpPr/>
            <p:nvPr/>
          </p:nvSpPr>
          <p:spPr>
            <a:xfrm>
              <a:off x="590400" y="5410080"/>
              <a:ext cx="3962520" cy="5716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Text Box 25"/>
            <p:cNvSpPr/>
            <p:nvPr/>
          </p:nvSpPr>
          <p:spPr>
            <a:xfrm>
              <a:off x="728640" y="5462640"/>
              <a:ext cx="382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Marketing Pl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7" name="Group 64"/>
          <p:cNvGrpSpPr/>
          <p:nvPr/>
        </p:nvGrpSpPr>
        <p:grpSpPr>
          <a:xfrm>
            <a:off x="4572000" y="1066680"/>
            <a:ext cx="4191120" cy="571680"/>
            <a:chOff x="4572000" y="1066680"/>
            <a:chExt cx="4191120" cy="571680"/>
          </a:xfrm>
        </p:grpSpPr>
        <p:sp>
          <p:nvSpPr>
            <p:cNvPr id="648" name="Rectangle 41"/>
            <p:cNvSpPr/>
            <p:nvPr/>
          </p:nvSpPr>
          <p:spPr>
            <a:xfrm>
              <a:off x="4724280" y="1066680"/>
              <a:ext cx="3962520" cy="5716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Text Box 40"/>
            <p:cNvSpPr/>
            <p:nvPr/>
          </p:nvSpPr>
          <p:spPr>
            <a:xfrm>
              <a:off x="4800600" y="1143000"/>
              <a:ext cx="396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at the hotel will strive to b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58"/>
            <p:cNvSpPr/>
            <p:nvPr/>
          </p:nvSpPr>
          <p:spPr>
            <a:xfrm>
              <a:off x="4572000" y="13716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1" name="Group 65"/>
          <p:cNvGrpSpPr/>
          <p:nvPr/>
        </p:nvGrpSpPr>
        <p:grpSpPr>
          <a:xfrm>
            <a:off x="4572000" y="1886040"/>
            <a:ext cx="4191120" cy="642600"/>
            <a:chOff x="4572000" y="1886040"/>
            <a:chExt cx="4191120" cy="642600"/>
          </a:xfrm>
        </p:grpSpPr>
        <p:sp>
          <p:nvSpPr>
            <p:cNvPr id="652" name="Rectangle 42"/>
            <p:cNvSpPr/>
            <p:nvPr/>
          </p:nvSpPr>
          <p:spPr>
            <a:xfrm>
              <a:off x="4724280" y="1905120"/>
              <a:ext cx="3962520" cy="5713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Text Box 43"/>
            <p:cNvSpPr/>
            <p:nvPr/>
          </p:nvSpPr>
          <p:spPr>
            <a:xfrm>
              <a:off x="4800600" y="1886040"/>
              <a:ext cx="3962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at the hotel must do to be successful and how this will be accomplish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59"/>
            <p:cNvSpPr/>
            <p:nvPr/>
          </p:nvSpPr>
          <p:spPr>
            <a:xfrm>
              <a:off x="4572000" y="22096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Group 66"/>
          <p:cNvGrpSpPr/>
          <p:nvPr/>
        </p:nvGrpSpPr>
        <p:grpSpPr>
          <a:xfrm>
            <a:off x="4572000" y="2819520"/>
            <a:ext cx="4191120" cy="642600"/>
            <a:chOff x="4572000" y="2819520"/>
            <a:chExt cx="4191120" cy="642600"/>
          </a:xfrm>
        </p:grpSpPr>
        <p:sp>
          <p:nvSpPr>
            <p:cNvPr id="656" name="Rectangle 44"/>
            <p:cNvSpPr/>
            <p:nvPr/>
          </p:nvSpPr>
          <p:spPr>
            <a:xfrm>
              <a:off x="4724280" y="2819520"/>
              <a:ext cx="3962520" cy="5713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Text Box 45"/>
            <p:cNvSpPr/>
            <p:nvPr/>
          </p:nvSpPr>
          <p:spPr>
            <a:xfrm>
              <a:off x="4800600" y="2819520"/>
              <a:ext cx="3962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otel’s goal for long-range (e.g., five year) time sp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60"/>
            <p:cNvSpPr/>
            <p:nvPr/>
          </p:nvSpPr>
          <p:spPr>
            <a:xfrm>
              <a:off x="4572000" y="31240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Group 67"/>
          <p:cNvGrpSpPr/>
          <p:nvPr/>
        </p:nvGrpSpPr>
        <p:grpSpPr>
          <a:xfrm>
            <a:off x="4572000" y="3657600"/>
            <a:ext cx="4191120" cy="571680"/>
            <a:chOff x="4572000" y="3657600"/>
            <a:chExt cx="4191120" cy="571680"/>
          </a:xfrm>
        </p:grpSpPr>
        <p:sp>
          <p:nvSpPr>
            <p:cNvPr id="660" name="Rectangle 46"/>
            <p:cNvSpPr/>
            <p:nvPr/>
          </p:nvSpPr>
          <p:spPr>
            <a:xfrm>
              <a:off x="4724280" y="3657600"/>
              <a:ext cx="3962520" cy="5716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Text Box 47"/>
            <p:cNvSpPr/>
            <p:nvPr/>
          </p:nvSpPr>
          <p:spPr>
            <a:xfrm>
              <a:off x="4800600" y="3753000"/>
              <a:ext cx="396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otel’s goal within a one-year time sp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61"/>
            <p:cNvSpPr/>
            <p:nvPr/>
          </p:nvSpPr>
          <p:spPr>
            <a:xfrm>
              <a:off x="4572000" y="39625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3" name="Group 69"/>
          <p:cNvGrpSpPr/>
          <p:nvPr/>
        </p:nvGrpSpPr>
        <p:grpSpPr>
          <a:xfrm>
            <a:off x="4572000" y="4514760"/>
            <a:ext cx="4191120" cy="666720"/>
            <a:chOff x="4572000" y="4514760"/>
            <a:chExt cx="4191120" cy="666720"/>
          </a:xfrm>
        </p:grpSpPr>
        <p:sp>
          <p:nvSpPr>
            <p:cNvPr id="664" name="Rectangle 48"/>
            <p:cNvSpPr/>
            <p:nvPr/>
          </p:nvSpPr>
          <p:spPr>
            <a:xfrm>
              <a:off x="4724280" y="4552920"/>
              <a:ext cx="3962520" cy="6285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Text Box 49"/>
            <p:cNvSpPr/>
            <p:nvPr/>
          </p:nvSpPr>
          <p:spPr>
            <a:xfrm>
              <a:off x="4800600" y="4514760"/>
              <a:ext cx="3962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ticipating revenues and expenses during short-range plan implement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Line 62"/>
            <p:cNvSpPr/>
            <p:nvPr/>
          </p:nvSpPr>
          <p:spPr>
            <a:xfrm>
              <a:off x="4572000" y="48769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Group 70"/>
          <p:cNvGrpSpPr/>
          <p:nvPr/>
        </p:nvGrpSpPr>
        <p:grpSpPr>
          <a:xfrm>
            <a:off x="4552920" y="5429160"/>
            <a:ext cx="4191120" cy="661680"/>
            <a:chOff x="4552920" y="5429160"/>
            <a:chExt cx="4191120" cy="661680"/>
          </a:xfrm>
        </p:grpSpPr>
        <p:sp>
          <p:nvSpPr>
            <p:cNvPr id="668" name="Rectangle 51"/>
            <p:cNvSpPr/>
            <p:nvPr/>
          </p:nvSpPr>
          <p:spPr>
            <a:xfrm>
              <a:off x="4705200" y="5429160"/>
              <a:ext cx="3962520" cy="6285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Text Box 52"/>
            <p:cNvSpPr/>
            <p:nvPr/>
          </p:nvSpPr>
          <p:spPr>
            <a:xfrm>
              <a:off x="4781520" y="5448240"/>
              <a:ext cx="3962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at must be done to generate revenues anticipated by the operating budg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Line 63"/>
            <p:cNvSpPr/>
            <p:nvPr/>
          </p:nvSpPr>
          <p:spPr>
            <a:xfrm>
              <a:off x="4552920" y="57528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78840"/>
            <a:ext cx="80773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nagement Basics: Decision Ma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2" name="Group 69"/>
          <p:cNvGrpSpPr/>
          <p:nvPr/>
        </p:nvGrpSpPr>
        <p:grpSpPr>
          <a:xfrm>
            <a:off x="380880" y="5162400"/>
            <a:ext cx="4191120" cy="992880"/>
            <a:chOff x="380880" y="5162400"/>
            <a:chExt cx="4191120" cy="992880"/>
          </a:xfrm>
        </p:grpSpPr>
        <p:sp>
          <p:nvSpPr>
            <p:cNvPr id="673" name="AutoShape 4"/>
            <p:cNvSpPr/>
            <p:nvPr/>
          </p:nvSpPr>
          <p:spPr>
            <a:xfrm>
              <a:off x="380880" y="5162400"/>
              <a:ext cx="4191120" cy="990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Text Box 16"/>
            <p:cNvSpPr/>
            <p:nvPr/>
          </p:nvSpPr>
          <p:spPr>
            <a:xfrm>
              <a:off x="457200" y="5238360"/>
              <a:ext cx="4038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outine and repetitive decisions made after considering policies, procedures, or ru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5" name="Group 70"/>
          <p:cNvGrpSpPr/>
          <p:nvPr/>
        </p:nvGrpSpPr>
        <p:grpSpPr>
          <a:xfrm>
            <a:off x="4762440" y="5162400"/>
            <a:ext cx="4191120" cy="990360"/>
            <a:chOff x="4762440" y="5162400"/>
            <a:chExt cx="4191120" cy="990360"/>
          </a:xfrm>
        </p:grpSpPr>
        <p:sp>
          <p:nvSpPr>
            <p:cNvPr id="676" name="AutoShape 31"/>
            <p:cNvSpPr/>
            <p:nvPr/>
          </p:nvSpPr>
          <p:spPr>
            <a:xfrm>
              <a:off x="4762440" y="5162400"/>
              <a:ext cx="4191120" cy="990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Text Box 33"/>
            <p:cNvSpPr/>
            <p:nvPr/>
          </p:nvSpPr>
          <p:spPr>
            <a:xfrm>
              <a:off x="4876920" y="5238360"/>
              <a:ext cx="4038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Infrequent decisions requiring creative decision making ab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Text Box 11"/>
          <p:cNvSpPr/>
          <p:nvPr/>
        </p:nvSpPr>
        <p:spPr>
          <a:xfrm>
            <a:off x="419040" y="4800600"/>
            <a:ext cx="415296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rogrammed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32"/>
          <p:cNvSpPr/>
          <p:nvPr/>
        </p:nvSpPr>
        <p:spPr>
          <a:xfrm>
            <a:off x="4772160" y="4800600"/>
            <a:ext cx="419076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Non-programmed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88"/>
          <p:cNvSpPr/>
          <p:nvPr/>
        </p:nvSpPr>
        <p:spPr>
          <a:xfrm>
            <a:off x="1981080" y="838080"/>
            <a:ext cx="518184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fore making a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1" name="Group 134"/>
          <p:cNvGrpSpPr/>
          <p:nvPr/>
        </p:nvGrpSpPr>
        <p:grpSpPr>
          <a:xfrm>
            <a:off x="484200" y="1281240"/>
            <a:ext cx="8888400" cy="3443040"/>
            <a:chOff x="484200" y="1281240"/>
            <a:chExt cx="8888400" cy="3443040"/>
          </a:xfrm>
        </p:grpSpPr>
        <p:sp>
          <p:nvSpPr>
            <p:cNvPr id="682" name="Rectangle 91"/>
            <p:cNvSpPr/>
            <p:nvPr/>
          </p:nvSpPr>
          <p:spPr>
            <a:xfrm>
              <a:off x="484200" y="1281240"/>
              <a:ext cx="8229600" cy="344304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3" name="Picture 93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884160" y="1428480"/>
              <a:ext cx="392040" cy="27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4" name="Picture 122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884160" y="1809360"/>
              <a:ext cx="392040" cy="27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5" name="Picture 123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884160" y="2495160"/>
              <a:ext cx="392040" cy="27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125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884160" y="2854080"/>
              <a:ext cx="392040" cy="27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7" name="Text Box 126"/>
            <p:cNvSpPr/>
            <p:nvPr/>
          </p:nvSpPr>
          <p:spPr>
            <a:xfrm>
              <a:off x="1295280" y="1352160"/>
              <a:ext cx="8077320" cy="33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ho is the correct person to make decisions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ill a decision about a specific issue bring the hotel closer t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ttaining objectives and goals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ow will the decision affect guests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s there only one acceptable alternative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ow much time and effort can be spent on the decision?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ow does one’s experience help with decision making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ust the decision please everyone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at are the ethical aspects of the decisions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8" name="Picture 127" descr="C:\Documents and Settings\Microlabs\Application Data\Microsoft\Media Catalog\Downloaded Clips\cl0\BS00023_.wmf"/>
            <p:cNvPicPr/>
            <p:nvPr/>
          </p:nvPicPr>
          <p:blipFill>
            <a:blip r:embed="rId5"/>
            <a:stretch/>
          </p:blipFill>
          <p:spPr>
            <a:xfrm>
              <a:off x="884160" y="3238200"/>
              <a:ext cx="392040" cy="27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9" name="Picture 128" descr="C:\Documents and Settings\Microlabs\Application Data\Microsoft\Media Catalog\Downloaded Clips\cl0\BS00023_.wmf"/>
            <p:cNvPicPr/>
            <p:nvPr/>
          </p:nvPicPr>
          <p:blipFill>
            <a:blip r:embed="rId6"/>
            <a:stretch/>
          </p:blipFill>
          <p:spPr>
            <a:xfrm>
              <a:off x="884160" y="3581280"/>
              <a:ext cx="392040" cy="27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0" name="Picture 129" descr="C:\Documents and Settings\Microlabs\Application Data\Microsoft\Media Catalog\Downloaded Clips\cl0\BS00023_.wmf"/>
            <p:cNvPicPr/>
            <p:nvPr/>
          </p:nvPicPr>
          <p:blipFill>
            <a:blip r:embed="rId7"/>
            <a:stretch/>
          </p:blipFill>
          <p:spPr>
            <a:xfrm>
              <a:off x="884160" y="3943080"/>
              <a:ext cx="392040" cy="27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1" name="Picture 132" descr="C:\Documents and Settings\Microlabs\Application Data\Microsoft\Media Catalog\Downloaded Clips\cl0\BS00023_.wmf"/>
            <p:cNvPicPr/>
            <p:nvPr/>
          </p:nvPicPr>
          <p:blipFill>
            <a:blip r:embed="rId8"/>
            <a:stretch/>
          </p:blipFill>
          <p:spPr>
            <a:xfrm>
              <a:off x="884160" y="4304880"/>
              <a:ext cx="392040" cy="271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nagement Basics: Decision Making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3" name="Group 34"/>
          <p:cNvGrpSpPr/>
          <p:nvPr/>
        </p:nvGrpSpPr>
        <p:grpSpPr>
          <a:xfrm>
            <a:off x="304920" y="3438360"/>
            <a:ext cx="2666880" cy="2286000"/>
            <a:chOff x="304920" y="3438360"/>
            <a:chExt cx="2666880" cy="2286000"/>
          </a:xfrm>
        </p:grpSpPr>
        <p:sp>
          <p:nvSpPr>
            <p:cNvPr id="694" name="AutoShape 19"/>
            <p:cNvSpPr/>
            <p:nvPr/>
          </p:nvSpPr>
          <p:spPr>
            <a:xfrm>
              <a:off x="304920" y="343836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Text Box 29"/>
            <p:cNvSpPr/>
            <p:nvPr/>
          </p:nvSpPr>
          <p:spPr>
            <a:xfrm>
              <a:off x="457200" y="4047840"/>
              <a:ext cx="2209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anager makes decisions unilaterall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Group 35"/>
          <p:cNvGrpSpPr/>
          <p:nvPr/>
        </p:nvGrpSpPr>
        <p:grpSpPr>
          <a:xfrm>
            <a:off x="3200400" y="3438360"/>
            <a:ext cx="2666880" cy="2286000"/>
            <a:chOff x="3200400" y="3438360"/>
            <a:chExt cx="2666880" cy="2286000"/>
          </a:xfrm>
        </p:grpSpPr>
        <p:sp>
          <p:nvSpPr>
            <p:cNvPr id="697" name="AutoShape 25"/>
            <p:cNvSpPr/>
            <p:nvPr/>
          </p:nvSpPr>
          <p:spPr>
            <a:xfrm>
              <a:off x="3200400" y="343836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Text Box 30"/>
            <p:cNvSpPr/>
            <p:nvPr/>
          </p:nvSpPr>
          <p:spPr>
            <a:xfrm>
              <a:off x="3352680" y="4047840"/>
              <a:ext cx="22100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anager makes decisions after input from oth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Group 36"/>
          <p:cNvGrpSpPr/>
          <p:nvPr/>
        </p:nvGrpSpPr>
        <p:grpSpPr>
          <a:xfrm>
            <a:off x="6172200" y="3438360"/>
            <a:ext cx="2666880" cy="2286000"/>
            <a:chOff x="6172200" y="3438360"/>
            <a:chExt cx="2666880" cy="2286000"/>
          </a:xfrm>
        </p:grpSpPr>
        <p:sp>
          <p:nvSpPr>
            <p:cNvPr id="700" name="AutoShape 26"/>
            <p:cNvSpPr/>
            <p:nvPr/>
          </p:nvSpPr>
          <p:spPr>
            <a:xfrm>
              <a:off x="6172200" y="343836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Text Box 31"/>
            <p:cNvSpPr/>
            <p:nvPr/>
          </p:nvSpPr>
          <p:spPr>
            <a:xfrm>
              <a:off x="6248520" y="4047840"/>
              <a:ext cx="2209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anager allows team to make decis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2" name="Text Box 20"/>
          <p:cNvSpPr/>
          <p:nvPr/>
        </p:nvSpPr>
        <p:spPr>
          <a:xfrm>
            <a:off x="314280" y="3429000"/>
            <a:ext cx="198108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radi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27"/>
          <p:cNvSpPr/>
          <p:nvPr/>
        </p:nvSpPr>
        <p:spPr>
          <a:xfrm>
            <a:off x="3209760" y="3429000"/>
            <a:ext cx="198144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Text Box 28"/>
          <p:cNvSpPr/>
          <p:nvPr/>
        </p:nvSpPr>
        <p:spPr>
          <a:xfrm>
            <a:off x="6181560" y="3429000"/>
            <a:ext cx="213372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ontempo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5" name="Group 41"/>
          <p:cNvGrpSpPr/>
          <p:nvPr/>
        </p:nvGrpSpPr>
        <p:grpSpPr>
          <a:xfrm>
            <a:off x="361800" y="1447920"/>
            <a:ext cx="8305920" cy="1143000"/>
            <a:chOff x="361800" y="1447920"/>
            <a:chExt cx="8305920" cy="1143000"/>
          </a:xfrm>
        </p:grpSpPr>
        <p:sp>
          <p:nvSpPr>
            <p:cNvPr id="706" name="AutoShape 32"/>
            <p:cNvSpPr/>
            <p:nvPr/>
          </p:nvSpPr>
          <p:spPr>
            <a:xfrm>
              <a:off x="361800" y="1447920"/>
              <a:ext cx="8305920" cy="1143000"/>
            </a:xfrm>
            <a:prstGeom prst="rightArrow">
              <a:avLst>
                <a:gd name="adj1" fmla="val 40000"/>
                <a:gd name="adj2" fmla="val 179987"/>
              </a:avLst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Text Box 33"/>
            <p:cNvSpPr/>
            <p:nvPr/>
          </p:nvSpPr>
          <p:spPr>
            <a:xfrm>
              <a:off x="590400" y="1790640"/>
              <a:ext cx="647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Continuum of decision mak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0" y="7884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nagement Basics: Decision Making (continued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22"/>
          <p:cNvSpPr/>
          <p:nvPr/>
        </p:nvSpPr>
        <p:spPr>
          <a:xfrm>
            <a:off x="895320" y="1143000"/>
            <a:ext cx="365760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Text Box 23"/>
          <p:cNvSpPr/>
          <p:nvPr/>
        </p:nvSpPr>
        <p:spPr>
          <a:xfrm>
            <a:off x="4781520" y="1143000"/>
            <a:ext cx="350532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Text Box 26"/>
          <p:cNvSpPr/>
          <p:nvPr/>
        </p:nvSpPr>
        <p:spPr>
          <a:xfrm>
            <a:off x="3943440" y="2666880"/>
            <a:ext cx="137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Group decisionmaking proc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2" name="Group 51"/>
          <p:cNvGrpSpPr/>
          <p:nvPr/>
        </p:nvGrpSpPr>
        <p:grpSpPr>
          <a:xfrm>
            <a:off x="190440" y="1600200"/>
            <a:ext cx="4457520" cy="4495680"/>
            <a:chOff x="190440" y="1600200"/>
            <a:chExt cx="4457520" cy="4495680"/>
          </a:xfrm>
        </p:grpSpPr>
        <p:sp>
          <p:nvSpPr>
            <p:cNvPr id="713" name="AutoShape 24"/>
            <p:cNvSpPr/>
            <p:nvPr/>
          </p:nvSpPr>
          <p:spPr>
            <a:xfrm>
              <a:off x="190440" y="1600200"/>
              <a:ext cx="4457520" cy="4495680"/>
            </a:xfrm>
            <a:prstGeom prst="flowChartOnlineStorag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Text Box 28"/>
            <p:cNvSpPr/>
            <p:nvPr/>
          </p:nvSpPr>
          <p:spPr>
            <a:xfrm>
              <a:off x="793800" y="1752480"/>
              <a:ext cx="334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Considering broad range of informatio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Text Box 29"/>
            <p:cNvSpPr/>
            <p:nvPr/>
          </p:nvSpPr>
          <p:spPr>
            <a:xfrm>
              <a:off x="793800" y="2571480"/>
              <a:ext cx="334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Generating more creative alternativ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Text Box 30"/>
            <p:cNvSpPr/>
            <p:nvPr/>
          </p:nvSpPr>
          <p:spPr>
            <a:xfrm>
              <a:off x="793800" y="3371760"/>
              <a:ext cx="3348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Whole team keenly aware of issues and proble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Text Box 31"/>
            <p:cNvSpPr/>
            <p:nvPr/>
          </p:nvSpPr>
          <p:spPr>
            <a:xfrm>
              <a:off x="754920" y="4571640"/>
              <a:ext cx="334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Achieving higher mora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Text Box 32"/>
            <p:cNvSpPr/>
            <p:nvPr/>
          </p:nvSpPr>
          <p:spPr>
            <a:xfrm>
              <a:off x="774360" y="5105160"/>
              <a:ext cx="334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Easier implemen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9" name="Picture 33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560160" y="1908000"/>
              <a:ext cx="311040" cy="22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0" name="Picture 34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560160" y="2705040"/>
              <a:ext cx="311040" cy="22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1" name="Picture 35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560160" y="3504960"/>
              <a:ext cx="311040" cy="22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36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560160" y="4724280"/>
              <a:ext cx="311040" cy="22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3" name="Picture 37" descr="C:\Documents and Settings\Microlabs\Application Data\Microsoft\Media Catalog\Downloaded Clips\cl0\BS00023_.wmf"/>
            <p:cNvPicPr/>
            <p:nvPr/>
          </p:nvPicPr>
          <p:blipFill>
            <a:blip r:embed="rId5"/>
            <a:stretch/>
          </p:blipFill>
          <p:spPr>
            <a:xfrm>
              <a:off x="560160" y="5181480"/>
              <a:ext cx="311040" cy="22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4" name="Group 49"/>
          <p:cNvGrpSpPr/>
          <p:nvPr/>
        </p:nvGrpSpPr>
        <p:grpSpPr>
          <a:xfrm>
            <a:off x="4704840" y="1600200"/>
            <a:ext cx="4248360" cy="4495680"/>
            <a:chOff x="4704840" y="1600200"/>
            <a:chExt cx="4248360" cy="4495680"/>
          </a:xfrm>
        </p:grpSpPr>
        <p:sp>
          <p:nvSpPr>
            <p:cNvPr id="725" name="AutoShape 25"/>
            <p:cNvSpPr/>
            <p:nvPr/>
          </p:nvSpPr>
          <p:spPr>
            <a:xfrm rot="10800000">
              <a:off x="4704840" y="1600200"/>
              <a:ext cx="4248360" cy="4495680"/>
            </a:xfrm>
            <a:prstGeom prst="flowChartOnlineStorag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Text Box 38"/>
            <p:cNvSpPr/>
            <p:nvPr/>
          </p:nvSpPr>
          <p:spPr>
            <a:xfrm>
              <a:off x="5619600" y="1752480"/>
              <a:ext cx="32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Possible conflic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Text Box 39"/>
            <p:cNvSpPr/>
            <p:nvPr/>
          </p:nvSpPr>
          <p:spPr>
            <a:xfrm>
              <a:off x="5619600" y="2190600"/>
              <a:ext cx="3276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May be forced to “take sides” if alternative opinions are express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Text Box 40"/>
            <p:cNvSpPr/>
            <p:nvPr/>
          </p:nvSpPr>
          <p:spPr>
            <a:xfrm>
              <a:off x="5619600" y="3371760"/>
              <a:ext cx="3276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Domination by staff members with strongest personalit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Text Box 41"/>
            <p:cNvSpPr/>
            <p:nvPr/>
          </p:nvSpPr>
          <p:spPr>
            <a:xfrm>
              <a:off x="5581800" y="4571640"/>
              <a:ext cx="32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Time-consumin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Text Box 42"/>
            <p:cNvSpPr/>
            <p:nvPr/>
          </p:nvSpPr>
          <p:spPr>
            <a:xfrm>
              <a:off x="5600880" y="5105160"/>
              <a:ext cx="3276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Not applicable when fast decisions necessa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1" name="Picture 43" descr="C:\Documents and Settings\Microlabs\Application Data\Microsoft\Media Catalog\Downloaded Clips\cl0\BS00023_.wmf"/>
            <p:cNvPicPr/>
            <p:nvPr/>
          </p:nvPicPr>
          <p:blipFill>
            <a:blip r:embed="rId6"/>
            <a:stretch/>
          </p:blipFill>
          <p:spPr>
            <a:xfrm>
              <a:off x="5391000" y="1908000"/>
              <a:ext cx="304920" cy="22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2" name="Picture 44" descr="C:\Documents and Settings\Microlabs\Application Data\Microsoft\Media Catalog\Downloaded Clips\cl0\BS00023_.wmf"/>
            <p:cNvPicPr/>
            <p:nvPr/>
          </p:nvPicPr>
          <p:blipFill>
            <a:blip r:embed="rId7"/>
            <a:stretch/>
          </p:blipFill>
          <p:spPr>
            <a:xfrm>
              <a:off x="5391000" y="2307960"/>
              <a:ext cx="304920" cy="22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3" name="Picture 45" descr="C:\Documents and Settings\Microlabs\Application Data\Microsoft\Media Catalog\Downloaded Clips\cl0\BS00023_.wmf"/>
            <p:cNvPicPr/>
            <p:nvPr/>
          </p:nvPicPr>
          <p:blipFill>
            <a:blip r:embed="rId8"/>
            <a:stretch/>
          </p:blipFill>
          <p:spPr>
            <a:xfrm>
              <a:off x="5391000" y="3504960"/>
              <a:ext cx="304920" cy="22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6" descr="C:\Documents and Settings\Microlabs\Application Data\Microsoft\Media Catalog\Downloaded Clips\cl0\BS00023_.wmf"/>
            <p:cNvPicPr/>
            <p:nvPr/>
          </p:nvPicPr>
          <p:blipFill>
            <a:blip r:embed="rId9"/>
            <a:stretch/>
          </p:blipFill>
          <p:spPr>
            <a:xfrm>
              <a:off x="5391000" y="4724280"/>
              <a:ext cx="304920" cy="22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5" name="Picture 47" descr="C:\Documents and Settings\Microlabs\Application Data\Microsoft\Media Catalog\Downloaded Clips\cl0\BS00023_.wmf"/>
            <p:cNvPicPr/>
            <p:nvPr/>
          </p:nvPicPr>
          <p:blipFill>
            <a:blip r:embed="rId10"/>
            <a:stretch/>
          </p:blipFill>
          <p:spPr>
            <a:xfrm>
              <a:off x="5391000" y="5238360"/>
              <a:ext cx="304920" cy="225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9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9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6" name="Group 130"/>
          <p:cNvGrpSpPr/>
          <p:nvPr/>
        </p:nvGrpSpPr>
        <p:grpSpPr>
          <a:xfrm>
            <a:off x="5048280" y="1200240"/>
            <a:ext cx="3733920" cy="1581120"/>
            <a:chOff x="5048280" y="1200240"/>
            <a:chExt cx="3733920" cy="1581120"/>
          </a:xfrm>
        </p:grpSpPr>
        <p:sp>
          <p:nvSpPr>
            <p:cNvPr id="737" name="AutoShape 31"/>
            <p:cNvSpPr/>
            <p:nvPr/>
          </p:nvSpPr>
          <p:spPr>
            <a:xfrm>
              <a:off x="5048280" y="1200240"/>
              <a:ext cx="3733920" cy="1581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Text Box 33"/>
            <p:cNvSpPr/>
            <p:nvPr/>
          </p:nvSpPr>
          <p:spPr>
            <a:xfrm>
              <a:off x="5219640" y="1581120"/>
              <a:ext cx="3162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imit to how many staff members one supervisor can manage effectivel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9" name="Group 129"/>
          <p:cNvGrpSpPr/>
          <p:nvPr/>
        </p:nvGrpSpPr>
        <p:grpSpPr>
          <a:xfrm>
            <a:off x="590400" y="1200240"/>
            <a:ext cx="3733920" cy="1581120"/>
            <a:chOff x="590400" y="1200240"/>
            <a:chExt cx="3733920" cy="1581120"/>
          </a:xfrm>
        </p:grpSpPr>
        <p:sp>
          <p:nvSpPr>
            <p:cNvPr id="740" name="AutoShape 4"/>
            <p:cNvSpPr/>
            <p:nvPr/>
          </p:nvSpPr>
          <p:spPr>
            <a:xfrm>
              <a:off x="590400" y="1200240"/>
              <a:ext cx="3733920" cy="1581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Text Box 16"/>
            <p:cNvSpPr/>
            <p:nvPr/>
          </p:nvSpPr>
          <p:spPr>
            <a:xfrm>
              <a:off x="762120" y="1581120"/>
              <a:ext cx="3162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ach employee should report or be accountable to only one boss for a specific activ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440" y="78840"/>
            <a:ext cx="80773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nagement Basics: Organizing Prin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11"/>
          <p:cNvSpPr/>
          <p:nvPr/>
        </p:nvSpPr>
        <p:spPr>
          <a:xfrm>
            <a:off x="628560" y="1066680"/>
            <a:ext cx="367668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Unity of 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32"/>
          <p:cNvSpPr/>
          <p:nvPr/>
        </p:nvSpPr>
        <p:spPr>
          <a:xfrm>
            <a:off x="5086440" y="1066680"/>
            <a:ext cx="367668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pan of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37"/>
          <p:cNvSpPr/>
          <p:nvPr/>
        </p:nvSpPr>
        <p:spPr>
          <a:xfrm>
            <a:off x="2971800" y="2895480"/>
            <a:ext cx="367668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istribution of auth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6" name=""/>
          <p:cNvGraphicFramePr/>
          <p:nvPr/>
        </p:nvGraphicFramePr>
        <p:xfrm>
          <a:off x="399960" y="3476520"/>
          <a:ext cx="8534520" cy="2621160"/>
        </p:xfrm>
        <a:graphic>
          <a:graphicData uri="http://schemas.openxmlformats.org/drawingml/2006/table">
            <a:tbl>
              <a:tblPr/>
              <a:tblGrid>
                <a:gridCol w="1543320"/>
                <a:gridCol w="2571480"/>
                <a:gridCol w="441972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Types of author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33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Used 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33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Ex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3300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Advis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Staff manag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Develop orientation program for all hotel employe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Line managers        (within department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Hiring and firing employees within a specific depart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Funct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Line managers (between department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Executive housekeeper establishes table linen laundry schedule with F&amp;B dep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0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7" name="Group 38"/>
          <p:cNvGrpSpPr/>
          <p:nvPr/>
        </p:nvGrpSpPr>
        <p:grpSpPr>
          <a:xfrm>
            <a:off x="5048280" y="1200240"/>
            <a:ext cx="3733920" cy="4971960"/>
            <a:chOff x="5048280" y="1200240"/>
            <a:chExt cx="3733920" cy="4971960"/>
          </a:xfrm>
        </p:grpSpPr>
        <p:sp>
          <p:nvSpPr>
            <p:cNvPr id="748" name="AutoShape 25"/>
            <p:cNvSpPr/>
            <p:nvPr/>
          </p:nvSpPr>
          <p:spPr>
            <a:xfrm>
              <a:off x="5048280" y="1200240"/>
              <a:ext cx="3733920" cy="4971960"/>
            </a:xfrm>
            <a:custGeom>
              <a:avLst/>
              <a:gdLst>
                <a:gd name="textAreaLeft" fmla="*/ 182160 w 3733920"/>
                <a:gd name="textAreaRight" fmla="*/ 3551760 w 3733920"/>
                <a:gd name="textAreaTop" fmla="*/ 182160 h 4971960"/>
                <a:gd name="textAreaBottom" fmla="*/ 4789800 h 4971960"/>
              </a:gdLst>
              <a:ahLst/>
              <a:rect l="textAreaLeft" t="textAreaTop" r="textAreaRight" b="textAreaBottom"/>
              <a:pathLst>
                <a:path w="21600" h="28761">
                  <a:moveTo>
                    <a:pt x="3600" y="0"/>
                  </a:moveTo>
                  <a:arcTo wR="3600" hR="3600" stAng="16200000" swAng="-5400000"/>
                  <a:lnTo>
                    <a:pt x="0" y="25161"/>
                  </a:lnTo>
                  <a:arcTo wR="3600" hR="3600" stAng="10800000" swAng="-5400000"/>
                  <a:lnTo>
                    <a:pt x="18000" y="287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Text Box 33"/>
            <p:cNvSpPr/>
            <p:nvPr/>
          </p:nvSpPr>
          <p:spPr>
            <a:xfrm>
              <a:off x="5562720" y="2133720"/>
              <a:ext cx="2971800" cy="340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Work that others can do as well as the G.M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Work that is less important than other w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Work that should be learned by more than one 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0" name="Picture 34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5257800" y="2193840"/>
              <a:ext cx="304920" cy="2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1" name="Picture 35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5257800" y="3086280"/>
              <a:ext cx="304920" cy="2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36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5257800" y="4381560"/>
              <a:ext cx="3049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78840"/>
            <a:ext cx="80773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nagement Basics: Dele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26"/>
          <p:cNvSpPr/>
          <p:nvPr/>
        </p:nvSpPr>
        <p:spPr>
          <a:xfrm>
            <a:off x="5086440" y="1066680"/>
            <a:ext cx="3676680" cy="82548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What work might be delegated by the G.M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Group 37"/>
          <p:cNvGrpSpPr/>
          <p:nvPr/>
        </p:nvGrpSpPr>
        <p:grpSpPr>
          <a:xfrm>
            <a:off x="590400" y="1200240"/>
            <a:ext cx="3733920" cy="4971960"/>
            <a:chOff x="590400" y="1200240"/>
            <a:chExt cx="3733920" cy="4971960"/>
          </a:xfrm>
        </p:grpSpPr>
        <p:sp>
          <p:nvSpPr>
            <p:cNvPr id="756" name="AutoShape 22"/>
            <p:cNvSpPr/>
            <p:nvPr/>
          </p:nvSpPr>
          <p:spPr>
            <a:xfrm>
              <a:off x="590400" y="1200240"/>
              <a:ext cx="3733920" cy="4971960"/>
            </a:xfrm>
            <a:custGeom>
              <a:avLst/>
              <a:gdLst>
                <a:gd name="textAreaLeft" fmla="*/ 182160 w 3733920"/>
                <a:gd name="textAreaRight" fmla="*/ 3551760 w 3733920"/>
                <a:gd name="textAreaTop" fmla="*/ 182160 h 4971960"/>
                <a:gd name="textAreaBottom" fmla="*/ 4789800 h 4971960"/>
              </a:gdLst>
              <a:ahLst/>
              <a:rect l="textAreaLeft" t="textAreaTop" r="textAreaRight" b="textAreaBottom"/>
              <a:pathLst>
                <a:path w="21600" h="28761">
                  <a:moveTo>
                    <a:pt x="3600" y="0"/>
                  </a:moveTo>
                  <a:arcTo wR="3600" hR="3600" stAng="16200000" swAng="-5400000"/>
                  <a:lnTo>
                    <a:pt x="0" y="25161"/>
                  </a:lnTo>
                  <a:arcTo wR="3600" hR="3600" stAng="10800000" swAng="-5400000"/>
                  <a:lnTo>
                    <a:pt x="18000" y="287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Text Box 28"/>
            <p:cNvSpPr/>
            <p:nvPr/>
          </p:nvSpPr>
          <p:spPr>
            <a:xfrm>
              <a:off x="1066680" y="2133720"/>
              <a:ext cx="2971800" cy="359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Allows the G.M. to do most important things fir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Effective process to train employe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Allows more work to be accomplish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Improves contr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8" name="Picture 29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781200" y="2193840"/>
              <a:ext cx="304560" cy="2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9" name="Picture 30" descr="C:\Documents and Settings\Microlabs\Application Data\Microsoft\Media Catalog\Downloaded Clips\cl0\BS00023_.wmf"/>
            <p:cNvPicPr/>
            <p:nvPr/>
          </p:nvPicPr>
          <p:blipFill>
            <a:blip r:embed="rId5"/>
            <a:stretch/>
          </p:blipFill>
          <p:spPr>
            <a:xfrm>
              <a:off x="781200" y="3486240"/>
              <a:ext cx="304560" cy="2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0" name="Picture 31" descr="C:\Documents and Settings\Microlabs\Application Data\Microsoft\Media Catalog\Downloaded Clips\cl0\BS00023_.wmf"/>
            <p:cNvPicPr/>
            <p:nvPr/>
          </p:nvPicPr>
          <p:blipFill>
            <a:blip r:embed="rId6"/>
            <a:stretch/>
          </p:blipFill>
          <p:spPr>
            <a:xfrm>
              <a:off x="781200" y="4381560"/>
              <a:ext cx="304560" cy="2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1" name="Picture 32" descr="C:\Documents and Settings\Microlabs\Application Data\Microsoft\Media Catalog\Downloaded Clips\cl0\BS00023_.wmf"/>
            <p:cNvPicPr/>
            <p:nvPr/>
          </p:nvPicPr>
          <p:blipFill>
            <a:blip r:embed="rId7"/>
            <a:stretch/>
          </p:blipFill>
          <p:spPr>
            <a:xfrm>
              <a:off x="781200" y="5257800"/>
              <a:ext cx="30456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2" name="Text Box 23"/>
          <p:cNvSpPr/>
          <p:nvPr/>
        </p:nvSpPr>
        <p:spPr>
          <a:xfrm>
            <a:off x="628560" y="1066680"/>
            <a:ext cx="3676680" cy="82548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elegation benefits for the G.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5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8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04560" y="78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nagement Basics: Delegation (continued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4" name="Group 60"/>
          <p:cNvGrpSpPr/>
          <p:nvPr/>
        </p:nvGrpSpPr>
        <p:grpSpPr>
          <a:xfrm>
            <a:off x="380880" y="1371600"/>
            <a:ext cx="8420400" cy="843120"/>
            <a:chOff x="380880" y="1371600"/>
            <a:chExt cx="8420400" cy="843120"/>
          </a:xfrm>
        </p:grpSpPr>
        <p:sp>
          <p:nvSpPr>
            <p:cNvPr id="765" name="Rectangle 28"/>
            <p:cNvSpPr/>
            <p:nvPr/>
          </p:nvSpPr>
          <p:spPr>
            <a:xfrm>
              <a:off x="380880" y="1371600"/>
              <a:ext cx="8420400" cy="5716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Text Box 29"/>
            <p:cNvSpPr/>
            <p:nvPr/>
          </p:nvSpPr>
          <p:spPr>
            <a:xfrm>
              <a:off x="509760" y="1409760"/>
              <a:ext cx="812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Organizational climate necessary for deleg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Line 33"/>
            <p:cNvSpPr/>
            <p:nvPr/>
          </p:nvSpPr>
          <p:spPr>
            <a:xfrm>
              <a:off x="4495680" y="1981440"/>
              <a:ext cx="3240" cy="233280"/>
            </a:xfrm>
            <a:prstGeom prst="line">
              <a:avLst/>
            </a:prstGeom>
            <a:ln w="38160">
              <a:solidFill>
                <a:srgbClr val="ff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8" name="Group 61"/>
          <p:cNvGrpSpPr/>
          <p:nvPr/>
        </p:nvGrpSpPr>
        <p:grpSpPr>
          <a:xfrm>
            <a:off x="380880" y="2209680"/>
            <a:ext cx="8420400" cy="880920"/>
            <a:chOff x="380880" y="2209680"/>
            <a:chExt cx="8420400" cy="880920"/>
          </a:xfrm>
        </p:grpSpPr>
        <p:sp>
          <p:nvSpPr>
            <p:cNvPr id="769" name="Rectangle 26"/>
            <p:cNvSpPr/>
            <p:nvPr/>
          </p:nvSpPr>
          <p:spPr>
            <a:xfrm>
              <a:off x="380880" y="2209680"/>
              <a:ext cx="8420400" cy="5713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Text Box 30"/>
            <p:cNvSpPr/>
            <p:nvPr/>
          </p:nvSpPr>
          <p:spPr>
            <a:xfrm>
              <a:off x="574560" y="2233440"/>
              <a:ext cx="812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Assign specific duties &amp; responsibilities to employe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Line 36"/>
            <p:cNvSpPr/>
            <p:nvPr/>
          </p:nvSpPr>
          <p:spPr>
            <a:xfrm>
              <a:off x="4495680" y="2857320"/>
              <a:ext cx="3240" cy="233280"/>
            </a:xfrm>
            <a:prstGeom prst="line">
              <a:avLst/>
            </a:prstGeom>
            <a:ln w="38160">
              <a:solidFill>
                <a:srgbClr val="ff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2" name="Group 62"/>
          <p:cNvGrpSpPr/>
          <p:nvPr/>
        </p:nvGrpSpPr>
        <p:grpSpPr>
          <a:xfrm>
            <a:off x="380880" y="3124080"/>
            <a:ext cx="8420400" cy="842760"/>
            <a:chOff x="380880" y="3124080"/>
            <a:chExt cx="8420400" cy="842760"/>
          </a:xfrm>
        </p:grpSpPr>
        <p:sp>
          <p:nvSpPr>
            <p:cNvPr id="773" name="Rectangle 25"/>
            <p:cNvSpPr/>
            <p:nvPr/>
          </p:nvSpPr>
          <p:spPr>
            <a:xfrm>
              <a:off x="380880" y="3124080"/>
              <a:ext cx="8420400" cy="5713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Text Box 31"/>
            <p:cNvSpPr/>
            <p:nvPr/>
          </p:nvSpPr>
          <p:spPr>
            <a:xfrm>
              <a:off x="574560" y="3185640"/>
              <a:ext cx="812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Grant sufficient authority for carrying out assign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Line 37"/>
            <p:cNvSpPr/>
            <p:nvPr/>
          </p:nvSpPr>
          <p:spPr>
            <a:xfrm>
              <a:off x="4495680" y="3733560"/>
              <a:ext cx="3240" cy="233280"/>
            </a:xfrm>
            <a:prstGeom prst="line">
              <a:avLst/>
            </a:prstGeom>
            <a:ln w="38160">
              <a:solidFill>
                <a:srgbClr val="ff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6" name="Group 63"/>
          <p:cNvGrpSpPr/>
          <p:nvPr/>
        </p:nvGrpSpPr>
        <p:grpSpPr>
          <a:xfrm>
            <a:off x="380880" y="3924360"/>
            <a:ext cx="8420400" cy="842400"/>
            <a:chOff x="380880" y="3924360"/>
            <a:chExt cx="8420400" cy="842400"/>
          </a:xfrm>
        </p:grpSpPr>
        <p:sp>
          <p:nvSpPr>
            <p:cNvPr id="777" name="Rectangle 57"/>
            <p:cNvSpPr/>
            <p:nvPr/>
          </p:nvSpPr>
          <p:spPr>
            <a:xfrm>
              <a:off x="380880" y="3924360"/>
              <a:ext cx="8420400" cy="5713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32"/>
            <p:cNvSpPr/>
            <p:nvPr/>
          </p:nvSpPr>
          <p:spPr>
            <a:xfrm>
              <a:off x="533520" y="3995280"/>
              <a:ext cx="812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Supervisor &amp; employees agree on expected resul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Line 38"/>
            <p:cNvSpPr/>
            <p:nvPr/>
          </p:nvSpPr>
          <p:spPr>
            <a:xfrm>
              <a:off x="4495680" y="4533480"/>
              <a:ext cx="3240" cy="233280"/>
            </a:xfrm>
            <a:prstGeom prst="line">
              <a:avLst/>
            </a:prstGeom>
            <a:ln w="38160">
              <a:solidFill>
                <a:srgbClr val="ff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0" name="Group 65"/>
          <p:cNvGrpSpPr/>
          <p:nvPr/>
        </p:nvGrpSpPr>
        <p:grpSpPr>
          <a:xfrm>
            <a:off x="380880" y="5619600"/>
            <a:ext cx="8420400" cy="571320"/>
            <a:chOff x="380880" y="5619600"/>
            <a:chExt cx="8420400" cy="571320"/>
          </a:xfrm>
        </p:grpSpPr>
        <p:sp>
          <p:nvSpPr>
            <p:cNvPr id="781" name="Rectangle 59"/>
            <p:cNvSpPr/>
            <p:nvPr/>
          </p:nvSpPr>
          <p:spPr>
            <a:xfrm>
              <a:off x="380880" y="5619600"/>
              <a:ext cx="8420400" cy="5713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Text Box 35"/>
            <p:cNvSpPr/>
            <p:nvPr/>
          </p:nvSpPr>
          <p:spPr>
            <a:xfrm>
              <a:off x="552600" y="5628960"/>
              <a:ext cx="812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Managers make feedback system to measure progr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3" name="Group 64"/>
          <p:cNvGrpSpPr/>
          <p:nvPr/>
        </p:nvGrpSpPr>
        <p:grpSpPr>
          <a:xfrm>
            <a:off x="380880" y="4762440"/>
            <a:ext cx="8420400" cy="852480"/>
            <a:chOff x="380880" y="4762440"/>
            <a:chExt cx="8420400" cy="852480"/>
          </a:xfrm>
        </p:grpSpPr>
        <p:sp>
          <p:nvSpPr>
            <p:cNvPr id="784" name="Rectangle 58"/>
            <p:cNvSpPr/>
            <p:nvPr/>
          </p:nvSpPr>
          <p:spPr>
            <a:xfrm>
              <a:off x="380880" y="4762440"/>
              <a:ext cx="8420400" cy="5716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Text Box 34"/>
            <p:cNvSpPr/>
            <p:nvPr/>
          </p:nvSpPr>
          <p:spPr>
            <a:xfrm>
              <a:off x="552600" y="4834080"/>
              <a:ext cx="812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Communicate responsibilities to minimize confus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Line 39"/>
            <p:cNvSpPr/>
            <p:nvPr/>
          </p:nvSpPr>
          <p:spPr>
            <a:xfrm>
              <a:off x="4495680" y="5381640"/>
              <a:ext cx="3240" cy="233280"/>
            </a:xfrm>
            <a:prstGeom prst="line">
              <a:avLst/>
            </a:prstGeom>
            <a:ln w="38160">
              <a:solidFill>
                <a:srgbClr val="ff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7" name="Text Box 46"/>
          <p:cNvSpPr/>
          <p:nvPr/>
        </p:nvSpPr>
        <p:spPr>
          <a:xfrm>
            <a:off x="1981080" y="838080"/>
            <a:ext cx="518184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teps in effective dele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304560" y="78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nagement Basics: Flow of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Text Box 20"/>
          <p:cNvSpPr/>
          <p:nvPr/>
        </p:nvSpPr>
        <p:spPr>
          <a:xfrm>
            <a:off x="1981080" y="876240"/>
            <a:ext cx="518184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ulti-directional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0" name="Group 95"/>
          <p:cNvGrpSpPr/>
          <p:nvPr/>
        </p:nvGrpSpPr>
        <p:grpSpPr>
          <a:xfrm>
            <a:off x="552600" y="5205240"/>
            <a:ext cx="8229600" cy="973080"/>
            <a:chOff x="552600" y="5205240"/>
            <a:chExt cx="8229600" cy="973080"/>
          </a:xfrm>
        </p:grpSpPr>
        <p:sp>
          <p:nvSpPr>
            <p:cNvPr id="791" name="Rectangle 65"/>
            <p:cNvSpPr/>
            <p:nvPr/>
          </p:nvSpPr>
          <p:spPr>
            <a:xfrm>
              <a:off x="552600" y="5205240"/>
              <a:ext cx="8229600" cy="9144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Text Box 66"/>
            <p:cNvSpPr/>
            <p:nvPr/>
          </p:nvSpPr>
          <p:spPr>
            <a:xfrm>
              <a:off x="723960" y="5276520"/>
              <a:ext cx="800100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Formal channel (example): coac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Informal channel (example): grapevine / rumor mil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93" name="Picture 67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628560" y="5276520"/>
              <a:ext cx="540000" cy="37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68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628560" y="5738400"/>
              <a:ext cx="540000" cy="37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95" name="Group 94"/>
          <p:cNvGrpSpPr/>
          <p:nvPr/>
        </p:nvGrpSpPr>
        <p:grpSpPr>
          <a:xfrm>
            <a:off x="1295280" y="1371600"/>
            <a:ext cx="7086600" cy="3790440"/>
            <a:chOff x="1295280" y="1371600"/>
            <a:chExt cx="7086600" cy="3790440"/>
          </a:xfrm>
        </p:grpSpPr>
        <p:grpSp>
          <p:nvGrpSpPr>
            <p:cNvPr id="796" name="Group 92"/>
            <p:cNvGrpSpPr/>
            <p:nvPr/>
          </p:nvGrpSpPr>
          <p:grpSpPr>
            <a:xfrm>
              <a:off x="1981080" y="3314520"/>
              <a:ext cx="1847880" cy="856440"/>
              <a:chOff x="1981080" y="3314520"/>
              <a:chExt cx="1847880" cy="856440"/>
            </a:xfrm>
          </p:grpSpPr>
          <p:sp>
            <p:nvSpPr>
              <p:cNvPr id="797" name="Rectangle 28"/>
              <p:cNvSpPr/>
              <p:nvPr/>
            </p:nvSpPr>
            <p:spPr>
              <a:xfrm>
                <a:off x="1981080" y="3352320"/>
                <a:ext cx="1847880" cy="81864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Text Box 29"/>
              <p:cNvSpPr/>
              <p:nvPr/>
            </p:nvSpPr>
            <p:spPr>
              <a:xfrm>
                <a:off x="2057400" y="3314520"/>
                <a:ext cx="17146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Managers/ Supervisor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9" name="Group 80"/>
            <p:cNvGrpSpPr/>
            <p:nvPr/>
          </p:nvGrpSpPr>
          <p:grpSpPr>
            <a:xfrm>
              <a:off x="3048120" y="2266560"/>
              <a:ext cx="3619440" cy="705600"/>
              <a:chOff x="3048120" y="2266560"/>
              <a:chExt cx="3619440" cy="705600"/>
            </a:xfrm>
          </p:grpSpPr>
          <p:sp>
            <p:nvSpPr>
              <p:cNvPr id="800" name="Rectangle 77"/>
              <p:cNvSpPr/>
              <p:nvPr/>
            </p:nvSpPr>
            <p:spPr>
              <a:xfrm>
                <a:off x="3048120" y="2266560"/>
                <a:ext cx="3619440" cy="68580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Text Box 26"/>
              <p:cNvSpPr/>
              <p:nvPr/>
            </p:nvSpPr>
            <p:spPr>
              <a:xfrm>
                <a:off x="3409920" y="2285640"/>
                <a:ext cx="3125160" cy="68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Department Head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4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(Executive committee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Group 87"/>
            <p:cNvGrpSpPr/>
            <p:nvPr/>
          </p:nvGrpSpPr>
          <p:grpSpPr>
            <a:xfrm>
              <a:off x="3048120" y="1371600"/>
              <a:ext cx="3619440" cy="472320"/>
              <a:chOff x="3048120" y="1371600"/>
              <a:chExt cx="3619440" cy="472320"/>
            </a:xfrm>
          </p:grpSpPr>
          <p:sp>
            <p:nvSpPr>
              <p:cNvPr id="803" name="Rectangle 22"/>
              <p:cNvSpPr/>
              <p:nvPr/>
            </p:nvSpPr>
            <p:spPr>
              <a:xfrm>
                <a:off x="3048120" y="1371600"/>
                <a:ext cx="3619440" cy="45684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Text Box 23"/>
              <p:cNvSpPr/>
              <p:nvPr/>
            </p:nvSpPr>
            <p:spPr>
              <a:xfrm>
                <a:off x="3390840" y="1384200"/>
                <a:ext cx="3125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G.M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5" name="Line 35"/>
            <p:cNvSpPr/>
            <p:nvPr/>
          </p:nvSpPr>
          <p:spPr>
            <a:xfrm>
              <a:off x="4933800" y="1847520"/>
              <a:ext cx="1800" cy="38088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6" name="Group 88"/>
            <p:cNvGrpSpPr/>
            <p:nvPr/>
          </p:nvGrpSpPr>
          <p:grpSpPr>
            <a:xfrm>
              <a:off x="3048120" y="4698720"/>
              <a:ext cx="3619440" cy="463320"/>
              <a:chOff x="3048120" y="4698720"/>
              <a:chExt cx="3619440" cy="463320"/>
            </a:xfrm>
          </p:grpSpPr>
          <p:sp>
            <p:nvSpPr>
              <p:cNvPr id="807" name="Rectangle 78"/>
              <p:cNvSpPr/>
              <p:nvPr/>
            </p:nvSpPr>
            <p:spPr>
              <a:xfrm>
                <a:off x="3048120" y="4704840"/>
                <a:ext cx="3619440" cy="45720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Text Box 37"/>
              <p:cNvSpPr/>
              <p:nvPr/>
            </p:nvSpPr>
            <p:spPr>
              <a:xfrm>
                <a:off x="3390840" y="4698720"/>
                <a:ext cx="3125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Employe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9" name="Line 38"/>
            <p:cNvSpPr/>
            <p:nvPr/>
          </p:nvSpPr>
          <p:spPr>
            <a:xfrm>
              <a:off x="6399360" y="2971440"/>
              <a:ext cx="1440" cy="38088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Line 39"/>
            <p:cNvSpPr/>
            <p:nvPr/>
          </p:nvSpPr>
          <p:spPr>
            <a:xfrm>
              <a:off x="3524400" y="4171680"/>
              <a:ext cx="1440" cy="5522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1" name="Group 90"/>
            <p:cNvGrpSpPr/>
            <p:nvPr/>
          </p:nvGrpSpPr>
          <p:grpSpPr>
            <a:xfrm>
              <a:off x="6705720" y="2666880"/>
              <a:ext cx="1676160" cy="2285640"/>
              <a:chOff x="6705720" y="2666880"/>
              <a:chExt cx="1676160" cy="2285640"/>
            </a:xfrm>
          </p:grpSpPr>
          <p:sp>
            <p:nvSpPr>
              <p:cNvPr id="812" name="Line 44"/>
              <p:cNvSpPr/>
              <p:nvPr/>
            </p:nvSpPr>
            <p:spPr>
              <a:xfrm flipH="1">
                <a:off x="6705720" y="2666880"/>
                <a:ext cx="1676160" cy="0"/>
              </a:xfrm>
              <a:prstGeom prst="line">
                <a:avLst/>
              </a:prstGeom>
              <a:ln w="15840">
                <a:solidFill>
                  <a:srgbClr val="ffcc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Line 45"/>
              <p:cNvSpPr/>
              <p:nvPr/>
            </p:nvSpPr>
            <p:spPr>
              <a:xfrm flipH="1">
                <a:off x="6705720" y="4931280"/>
                <a:ext cx="1676160" cy="0"/>
              </a:xfrm>
              <a:prstGeom prst="line">
                <a:avLst/>
              </a:prstGeom>
              <a:ln w="15840">
                <a:solidFill>
                  <a:srgbClr val="ffcc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Line 46"/>
              <p:cNvSpPr/>
              <p:nvPr/>
            </p:nvSpPr>
            <p:spPr>
              <a:xfrm>
                <a:off x="8381880" y="2666880"/>
                <a:ext cx="0" cy="2285640"/>
              </a:xfrm>
              <a:prstGeom prst="line">
                <a:avLst/>
              </a:prstGeom>
              <a:ln w="1584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5" name="Group 70"/>
            <p:cNvGrpSpPr/>
            <p:nvPr/>
          </p:nvGrpSpPr>
          <p:grpSpPr>
            <a:xfrm>
              <a:off x="1600200" y="1828440"/>
              <a:ext cx="1219320" cy="838080"/>
              <a:chOff x="1600200" y="1828440"/>
              <a:chExt cx="1219320" cy="838080"/>
            </a:xfrm>
          </p:grpSpPr>
          <p:sp>
            <p:nvSpPr>
              <p:cNvPr id="816" name="AutoShape 56"/>
              <p:cNvSpPr/>
              <p:nvPr/>
            </p:nvSpPr>
            <p:spPr>
              <a:xfrm>
                <a:off x="1600200" y="1828440"/>
                <a:ext cx="1219320" cy="838080"/>
              </a:xfrm>
              <a:prstGeom prst="wedgeRoundRectCallout">
                <a:avLst>
                  <a:gd name="adj1" fmla="val -71875"/>
                  <a:gd name="adj2" fmla="val 81439"/>
                  <a:gd name="adj3" fmla="val 16667"/>
                </a:avLst>
              </a:prstGeom>
              <a:gradFill rotWithShape="0">
                <a:gsLst>
                  <a:gs pos="0">
                    <a:srgbClr val="ffff00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Text Box 57"/>
              <p:cNvSpPr/>
              <p:nvPr/>
            </p:nvSpPr>
            <p:spPr>
              <a:xfrm>
                <a:off x="1657440" y="1904760"/>
                <a:ext cx="1066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Vertical Comm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8" name="Group 91"/>
            <p:cNvGrpSpPr/>
            <p:nvPr/>
          </p:nvGrpSpPr>
          <p:grpSpPr>
            <a:xfrm>
              <a:off x="4191120" y="3807000"/>
              <a:ext cx="1295280" cy="706680"/>
              <a:chOff x="4191120" y="3807000"/>
              <a:chExt cx="1295280" cy="706680"/>
            </a:xfrm>
          </p:grpSpPr>
          <p:sp>
            <p:nvSpPr>
              <p:cNvPr id="819" name="AutoShape 58"/>
              <p:cNvSpPr/>
              <p:nvPr/>
            </p:nvSpPr>
            <p:spPr>
              <a:xfrm rot="10816200">
                <a:off x="4228200" y="3809880"/>
                <a:ext cx="1219320" cy="685440"/>
              </a:xfrm>
              <a:prstGeom prst="wedgeRoundRectCallout">
                <a:avLst>
                  <a:gd name="adj1" fmla="val 6856"/>
                  <a:gd name="adj2" fmla="val 73347"/>
                  <a:gd name="adj3" fmla="val 16667"/>
                </a:avLst>
              </a:prstGeom>
              <a:gradFill rotWithShape="0">
                <a:gsLst>
                  <a:gs pos="0">
                    <a:srgbClr val="ffff00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Text Box 59"/>
              <p:cNvSpPr/>
              <p:nvPr/>
            </p:nvSpPr>
            <p:spPr>
              <a:xfrm>
                <a:off x="4191120" y="3809880"/>
                <a:ext cx="12952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Horizontal  Comm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1" name="Group 93"/>
            <p:cNvGrpSpPr/>
            <p:nvPr/>
          </p:nvGrpSpPr>
          <p:grpSpPr>
            <a:xfrm>
              <a:off x="5943600" y="3314520"/>
              <a:ext cx="1847880" cy="856440"/>
              <a:chOff x="5943600" y="3314520"/>
              <a:chExt cx="1847880" cy="856440"/>
            </a:xfrm>
          </p:grpSpPr>
          <p:sp>
            <p:nvSpPr>
              <p:cNvPr id="822" name="Rectangle 75"/>
              <p:cNvSpPr/>
              <p:nvPr/>
            </p:nvSpPr>
            <p:spPr>
              <a:xfrm>
                <a:off x="5943600" y="3352320"/>
                <a:ext cx="1847880" cy="81864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Text Box 76"/>
              <p:cNvSpPr/>
              <p:nvPr/>
            </p:nvSpPr>
            <p:spPr>
              <a:xfrm>
                <a:off x="6019920" y="3314520"/>
                <a:ext cx="17143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Managers/ Supervisor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4" name="Line 82"/>
            <p:cNvSpPr/>
            <p:nvPr/>
          </p:nvSpPr>
          <p:spPr>
            <a:xfrm>
              <a:off x="3351240" y="2971440"/>
              <a:ext cx="1440" cy="38088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5" name="Group 86"/>
            <p:cNvGrpSpPr/>
            <p:nvPr/>
          </p:nvGrpSpPr>
          <p:grpSpPr>
            <a:xfrm>
              <a:off x="1295280" y="1599840"/>
              <a:ext cx="1752480" cy="3352680"/>
              <a:chOff x="1295280" y="1599840"/>
              <a:chExt cx="1752480" cy="3352680"/>
            </a:xfrm>
          </p:grpSpPr>
          <p:sp>
            <p:nvSpPr>
              <p:cNvPr id="826" name="Line 41"/>
              <p:cNvSpPr/>
              <p:nvPr/>
            </p:nvSpPr>
            <p:spPr>
              <a:xfrm>
                <a:off x="1295280" y="1599840"/>
                <a:ext cx="0" cy="3352680"/>
              </a:xfrm>
              <a:prstGeom prst="line">
                <a:avLst/>
              </a:prstGeom>
              <a:ln w="1584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Line 42"/>
              <p:cNvSpPr/>
              <p:nvPr/>
            </p:nvSpPr>
            <p:spPr>
              <a:xfrm flipH="1">
                <a:off x="1295280" y="4952520"/>
                <a:ext cx="1752480" cy="0"/>
              </a:xfrm>
              <a:prstGeom prst="line">
                <a:avLst/>
              </a:prstGeom>
              <a:ln w="15840">
                <a:solidFill>
                  <a:srgbClr val="ffcc6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Line 84"/>
              <p:cNvSpPr/>
              <p:nvPr/>
            </p:nvSpPr>
            <p:spPr>
              <a:xfrm flipH="1">
                <a:off x="1295280" y="1599840"/>
                <a:ext cx="1752480" cy="0"/>
              </a:xfrm>
              <a:prstGeom prst="line">
                <a:avLst/>
              </a:prstGeom>
              <a:ln w="15840">
                <a:solidFill>
                  <a:srgbClr val="ffcc6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9" name="Line 85"/>
            <p:cNvSpPr/>
            <p:nvPr/>
          </p:nvSpPr>
          <p:spPr>
            <a:xfrm flipH="1">
              <a:off x="3828960" y="3619440"/>
              <a:ext cx="2076480" cy="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Line 89"/>
            <p:cNvSpPr/>
            <p:nvPr/>
          </p:nvSpPr>
          <p:spPr>
            <a:xfrm>
              <a:off x="6172200" y="4171680"/>
              <a:ext cx="1440" cy="5522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6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304560" y="78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nagement Basics: Moti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2" name="Group 41"/>
          <p:cNvGrpSpPr/>
          <p:nvPr/>
        </p:nvGrpSpPr>
        <p:grpSpPr>
          <a:xfrm>
            <a:off x="1752480" y="762120"/>
            <a:ext cx="5562720" cy="1447560"/>
            <a:chOff x="1752480" y="762120"/>
            <a:chExt cx="5562720" cy="1447560"/>
          </a:xfrm>
        </p:grpSpPr>
        <p:sp>
          <p:nvSpPr>
            <p:cNvPr id="833" name="AutoShape 22"/>
            <p:cNvSpPr/>
            <p:nvPr/>
          </p:nvSpPr>
          <p:spPr>
            <a:xfrm>
              <a:off x="1752480" y="762120"/>
              <a:ext cx="5562720" cy="144756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Text Box 23"/>
            <p:cNvSpPr/>
            <p:nvPr/>
          </p:nvSpPr>
          <p:spPr>
            <a:xfrm>
              <a:off x="3200400" y="1066680"/>
              <a:ext cx="2743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Poorly motivated sta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Group 54"/>
          <p:cNvGrpSpPr/>
          <p:nvPr/>
        </p:nvGrpSpPr>
        <p:grpSpPr>
          <a:xfrm>
            <a:off x="376200" y="2305080"/>
            <a:ext cx="8634600" cy="818640"/>
            <a:chOff x="376200" y="2305080"/>
            <a:chExt cx="8634600" cy="818640"/>
          </a:xfrm>
        </p:grpSpPr>
        <p:sp>
          <p:nvSpPr>
            <p:cNvPr id="836" name="Rectangle 29"/>
            <p:cNvSpPr/>
            <p:nvPr/>
          </p:nvSpPr>
          <p:spPr>
            <a:xfrm>
              <a:off x="380880" y="2305080"/>
              <a:ext cx="8420400" cy="5713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Text Box 30"/>
            <p:cNvSpPr/>
            <p:nvPr/>
          </p:nvSpPr>
          <p:spPr>
            <a:xfrm>
              <a:off x="376200" y="2342880"/>
              <a:ext cx="863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Inconsistent performance for required quality or quantity standards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Line 34"/>
            <p:cNvSpPr/>
            <p:nvPr/>
          </p:nvSpPr>
          <p:spPr>
            <a:xfrm>
              <a:off x="4495680" y="2890440"/>
              <a:ext cx="3240" cy="233280"/>
            </a:xfrm>
            <a:prstGeom prst="line">
              <a:avLst/>
            </a:prstGeom>
            <a:ln w="38160">
              <a:solidFill>
                <a:srgbClr val="ff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9" name="Group 55"/>
          <p:cNvGrpSpPr/>
          <p:nvPr/>
        </p:nvGrpSpPr>
        <p:grpSpPr>
          <a:xfrm>
            <a:off x="380880" y="3124080"/>
            <a:ext cx="8420400" cy="819000"/>
            <a:chOff x="380880" y="3124080"/>
            <a:chExt cx="8420400" cy="819000"/>
          </a:xfrm>
        </p:grpSpPr>
        <p:sp>
          <p:nvSpPr>
            <p:cNvPr id="840" name="Rectangle 50"/>
            <p:cNvSpPr/>
            <p:nvPr/>
          </p:nvSpPr>
          <p:spPr>
            <a:xfrm>
              <a:off x="380880" y="3124080"/>
              <a:ext cx="8420400" cy="5713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31"/>
            <p:cNvSpPr/>
            <p:nvPr/>
          </p:nvSpPr>
          <p:spPr>
            <a:xfrm>
              <a:off x="574560" y="3143160"/>
              <a:ext cx="812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Guest dissatisfaction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Line 37"/>
            <p:cNvSpPr/>
            <p:nvPr/>
          </p:nvSpPr>
          <p:spPr>
            <a:xfrm>
              <a:off x="4495680" y="3709800"/>
              <a:ext cx="3240" cy="233280"/>
            </a:xfrm>
            <a:prstGeom prst="line">
              <a:avLst/>
            </a:prstGeom>
            <a:ln w="38160">
              <a:solidFill>
                <a:srgbClr val="ff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56"/>
          <p:cNvGrpSpPr/>
          <p:nvPr/>
        </p:nvGrpSpPr>
        <p:grpSpPr>
          <a:xfrm>
            <a:off x="380880" y="3962520"/>
            <a:ext cx="8420400" cy="842400"/>
            <a:chOff x="380880" y="3962520"/>
            <a:chExt cx="8420400" cy="842400"/>
          </a:xfrm>
        </p:grpSpPr>
        <p:sp>
          <p:nvSpPr>
            <p:cNvPr id="844" name="Rectangle 51"/>
            <p:cNvSpPr/>
            <p:nvPr/>
          </p:nvSpPr>
          <p:spPr>
            <a:xfrm>
              <a:off x="380880" y="3962520"/>
              <a:ext cx="8420400" cy="5713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Text Box 32"/>
            <p:cNvSpPr/>
            <p:nvPr/>
          </p:nvSpPr>
          <p:spPr>
            <a:xfrm>
              <a:off x="574560" y="4038480"/>
              <a:ext cx="812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Increased operating costs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Line 38"/>
            <p:cNvSpPr/>
            <p:nvPr/>
          </p:nvSpPr>
          <p:spPr>
            <a:xfrm>
              <a:off x="4495680" y="4571640"/>
              <a:ext cx="3240" cy="233280"/>
            </a:xfrm>
            <a:prstGeom prst="line">
              <a:avLst/>
            </a:prstGeom>
            <a:ln w="38160">
              <a:solidFill>
                <a:srgbClr val="ff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7" name="Group 58"/>
          <p:cNvGrpSpPr/>
          <p:nvPr/>
        </p:nvGrpSpPr>
        <p:grpSpPr>
          <a:xfrm>
            <a:off x="380880" y="5600880"/>
            <a:ext cx="8420400" cy="571320"/>
            <a:chOff x="380880" y="5600880"/>
            <a:chExt cx="8420400" cy="571320"/>
          </a:xfrm>
        </p:grpSpPr>
        <p:sp>
          <p:nvSpPr>
            <p:cNvPr id="848" name="Rectangle 53"/>
            <p:cNvSpPr/>
            <p:nvPr/>
          </p:nvSpPr>
          <p:spPr>
            <a:xfrm>
              <a:off x="380880" y="5600880"/>
              <a:ext cx="8420400" cy="5713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Text Box 35"/>
            <p:cNvSpPr/>
            <p:nvPr/>
          </p:nvSpPr>
          <p:spPr>
            <a:xfrm>
              <a:off x="552600" y="5686560"/>
              <a:ext cx="812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Hotel suffers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0" name="Group 57"/>
          <p:cNvGrpSpPr/>
          <p:nvPr/>
        </p:nvGrpSpPr>
        <p:grpSpPr>
          <a:xfrm>
            <a:off x="380880" y="4800600"/>
            <a:ext cx="8420400" cy="818640"/>
            <a:chOff x="380880" y="4800600"/>
            <a:chExt cx="8420400" cy="818640"/>
          </a:xfrm>
        </p:grpSpPr>
        <p:sp>
          <p:nvSpPr>
            <p:cNvPr id="851" name="Rectangle 52"/>
            <p:cNvSpPr/>
            <p:nvPr/>
          </p:nvSpPr>
          <p:spPr>
            <a:xfrm>
              <a:off x="380880" y="4800600"/>
              <a:ext cx="8420400" cy="5713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Text Box 33"/>
            <p:cNvSpPr/>
            <p:nvPr/>
          </p:nvSpPr>
          <p:spPr>
            <a:xfrm>
              <a:off x="533520" y="4833720"/>
              <a:ext cx="812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More motivated employees’ leave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Line 39"/>
            <p:cNvSpPr/>
            <p:nvPr/>
          </p:nvSpPr>
          <p:spPr>
            <a:xfrm>
              <a:off x="4495680" y="5386320"/>
              <a:ext cx="3240" cy="232920"/>
            </a:xfrm>
            <a:prstGeom prst="line">
              <a:avLst/>
            </a:prstGeom>
            <a:ln w="38160">
              <a:solidFill>
                <a:srgbClr val="ff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304560" y="78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nagement Basics: Motivation (continued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Text Box 34"/>
          <p:cNvSpPr/>
          <p:nvPr/>
        </p:nvSpPr>
        <p:spPr>
          <a:xfrm>
            <a:off x="1981080" y="685800"/>
            <a:ext cx="518184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ategies to motivate employ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Group 42"/>
          <p:cNvGrpSpPr/>
          <p:nvPr/>
        </p:nvGrpSpPr>
        <p:grpSpPr>
          <a:xfrm>
            <a:off x="484200" y="1204920"/>
            <a:ext cx="8229600" cy="533160"/>
            <a:chOff x="484200" y="1204920"/>
            <a:chExt cx="8229600" cy="533160"/>
          </a:xfrm>
        </p:grpSpPr>
        <p:sp>
          <p:nvSpPr>
            <p:cNvPr id="857" name="Rectangle 43"/>
            <p:cNvSpPr/>
            <p:nvPr/>
          </p:nvSpPr>
          <p:spPr>
            <a:xfrm>
              <a:off x="484200" y="1204920"/>
              <a:ext cx="8229600" cy="5331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Text Box 44"/>
            <p:cNvSpPr/>
            <p:nvPr/>
          </p:nvSpPr>
          <p:spPr>
            <a:xfrm>
              <a:off x="655920" y="1276200"/>
              <a:ext cx="760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Follow sound management advi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59" name="Picture 45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560520" y="1276200"/>
              <a:ext cx="539640" cy="37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0" name="Group 81"/>
          <p:cNvGrpSpPr/>
          <p:nvPr/>
        </p:nvGrpSpPr>
        <p:grpSpPr>
          <a:xfrm>
            <a:off x="484200" y="1814400"/>
            <a:ext cx="8229600" cy="533520"/>
            <a:chOff x="484200" y="1814400"/>
            <a:chExt cx="8229600" cy="533520"/>
          </a:xfrm>
        </p:grpSpPr>
        <p:sp>
          <p:nvSpPr>
            <p:cNvPr id="861" name="Rectangle 47"/>
            <p:cNvSpPr/>
            <p:nvPr/>
          </p:nvSpPr>
          <p:spPr>
            <a:xfrm>
              <a:off x="484200" y="1814400"/>
              <a:ext cx="8229600" cy="5335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48"/>
            <p:cNvSpPr/>
            <p:nvPr/>
          </p:nvSpPr>
          <p:spPr>
            <a:xfrm>
              <a:off x="655560" y="1814400"/>
              <a:ext cx="805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Effective orientation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3" name="Picture 49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560520" y="1890720"/>
              <a:ext cx="539640" cy="37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4" name="Group 50"/>
          <p:cNvGrpSpPr/>
          <p:nvPr/>
        </p:nvGrpSpPr>
        <p:grpSpPr>
          <a:xfrm>
            <a:off x="484200" y="2443320"/>
            <a:ext cx="8229600" cy="533160"/>
            <a:chOff x="484200" y="2443320"/>
            <a:chExt cx="8229600" cy="533160"/>
          </a:xfrm>
        </p:grpSpPr>
        <p:sp>
          <p:nvSpPr>
            <p:cNvPr id="865" name="Rectangle 51"/>
            <p:cNvSpPr/>
            <p:nvPr/>
          </p:nvSpPr>
          <p:spPr>
            <a:xfrm>
              <a:off x="484200" y="2443320"/>
              <a:ext cx="8229600" cy="5331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Text Box 52"/>
            <p:cNvSpPr/>
            <p:nvPr/>
          </p:nvSpPr>
          <p:spPr>
            <a:xfrm>
              <a:off x="655920" y="2514600"/>
              <a:ext cx="760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Train correctly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7" name="Picture 53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560520" y="2514600"/>
              <a:ext cx="539640" cy="37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8" name="Group 58"/>
          <p:cNvGrpSpPr/>
          <p:nvPr/>
        </p:nvGrpSpPr>
        <p:grpSpPr>
          <a:xfrm>
            <a:off x="484200" y="3071880"/>
            <a:ext cx="8229600" cy="533160"/>
            <a:chOff x="484200" y="3071880"/>
            <a:chExt cx="8229600" cy="533160"/>
          </a:xfrm>
        </p:grpSpPr>
        <p:sp>
          <p:nvSpPr>
            <p:cNvPr id="869" name="Rectangle 59"/>
            <p:cNvSpPr/>
            <p:nvPr/>
          </p:nvSpPr>
          <p:spPr>
            <a:xfrm>
              <a:off x="484200" y="3071880"/>
              <a:ext cx="8229600" cy="5331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Text Box 60"/>
            <p:cNvSpPr/>
            <p:nvPr/>
          </p:nvSpPr>
          <p:spPr>
            <a:xfrm>
              <a:off x="655920" y="3143160"/>
              <a:ext cx="760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Manage a professional hote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1" name="Picture 61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560520" y="3143160"/>
              <a:ext cx="539640" cy="37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2" name="Group 62"/>
          <p:cNvGrpSpPr/>
          <p:nvPr/>
        </p:nvGrpSpPr>
        <p:grpSpPr>
          <a:xfrm>
            <a:off x="484200" y="3719520"/>
            <a:ext cx="8229600" cy="533160"/>
            <a:chOff x="484200" y="3719520"/>
            <a:chExt cx="8229600" cy="533160"/>
          </a:xfrm>
        </p:grpSpPr>
        <p:sp>
          <p:nvSpPr>
            <p:cNvPr id="873" name="Rectangle 63"/>
            <p:cNvSpPr/>
            <p:nvPr/>
          </p:nvSpPr>
          <p:spPr>
            <a:xfrm>
              <a:off x="484200" y="3719520"/>
              <a:ext cx="8229600" cy="5331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Text Box 64"/>
            <p:cNvSpPr/>
            <p:nvPr/>
          </p:nvSpPr>
          <p:spPr>
            <a:xfrm>
              <a:off x="655920" y="3790800"/>
              <a:ext cx="760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Supervise as you want to be supervise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5" name="Picture 65" descr="C:\Documents and Settings\Microlabs\Application Data\Microsoft\Media Catalog\Downloaded Clips\cl0\BS00023_.wmf"/>
            <p:cNvPicPr/>
            <p:nvPr/>
          </p:nvPicPr>
          <p:blipFill>
            <a:blip r:embed="rId5"/>
            <a:stretch/>
          </p:blipFill>
          <p:spPr>
            <a:xfrm>
              <a:off x="560520" y="3790800"/>
              <a:ext cx="539640" cy="37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6" name="Group 66"/>
          <p:cNvGrpSpPr/>
          <p:nvPr/>
        </p:nvGrpSpPr>
        <p:grpSpPr>
          <a:xfrm>
            <a:off x="484200" y="4349880"/>
            <a:ext cx="8229600" cy="533160"/>
            <a:chOff x="484200" y="4349880"/>
            <a:chExt cx="8229600" cy="533160"/>
          </a:xfrm>
        </p:grpSpPr>
        <p:sp>
          <p:nvSpPr>
            <p:cNvPr id="877" name="Rectangle 67"/>
            <p:cNvSpPr/>
            <p:nvPr/>
          </p:nvSpPr>
          <p:spPr>
            <a:xfrm>
              <a:off x="484200" y="4349880"/>
              <a:ext cx="8229600" cy="5331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Text Box 68"/>
            <p:cNvSpPr/>
            <p:nvPr/>
          </p:nvSpPr>
          <p:spPr>
            <a:xfrm>
              <a:off x="655920" y="4421160"/>
              <a:ext cx="760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Encourage effective communication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9" name="Picture 69" descr="C:\Documents and Settings\Microlabs\Application Data\Microsoft\Media Catalog\Downloaded Clips\cl0\BS00023_.wmf"/>
            <p:cNvPicPr/>
            <p:nvPr/>
          </p:nvPicPr>
          <p:blipFill>
            <a:blip r:embed="rId6"/>
            <a:stretch/>
          </p:blipFill>
          <p:spPr>
            <a:xfrm>
              <a:off x="560520" y="4421160"/>
              <a:ext cx="539640" cy="37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0" name="Group 70"/>
          <p:cNvGrpSpPr/>
          <p:nvPr/>
        </p:nvGrpSpPr>
        <p:grpSpPr>
          <a:xfrm>
            <a:off x="484200" y="5014800"/>
            <a:ext cx="8229600" cy="533160"/>
            <a:chOff x="484200" y="5014800"/>
            <a:chExt cx="8229600" cy="533160"/>
          </a:xfrm>
        </p:grpSpPr>
        <p:sp>
          <p:nvSpPr>
            <p:cNvPr id="881" name="Rectangle 71"/>
            <p:cNvSpPr/>
            <p:nvPr/>
          </p:nvSpPr>
          <p:spPr>
            <a:xfrm>
              <a:off x="484200" y="5014800"/>
              <a:ext cx="8229600" cy="5331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Text Box 72"/>
            <p:cNvSpPr/>
            <p:nvPr/>
          </p:nvSpPr>
          <p:spPr>
            <a:xfrm>
              <a:off x="655920" y="5086080"/>
              <a:ext cx="760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Manage a friendly hote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3" name="Picture 73" descr="C:\Documents and Settings\Microlabs\Application Data\Microsoft\Media Catalog\Downloaded Clips\cl0\BS00023_.wmf"/>
            <p:cNvPicPr/>
            <p:nvPr/>
          </p:nvPicPr>
          <p:blipFill>
            <a:blip r:embed="rId7"/>
            <a:stretch/>
          </p:blipFill>
          <p:spPr>
            <a:xfrm>
              <a:off x="560520" y="5086080"/>
              <a:ext cx="539640" cy="37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4" name="Group 74"/>
          <p:cNvGrpSpPr/>
          <p:nvPr/>
        </p:nvGrpSpPr>
        <p:grpSpPr>
          <a:xfrm>
            <a:off x="484200" y="5643720"/>
            <a:ext cx="8229600" cy="533160"/>
            <a:chOff x="484200" y="5643720"/>
            <a:chExt cx="8229600" cy="533160"/>
          </a:xfrm>
        </p:grpSpPr>
        <p:sp>
          <p:nvSpPr>
            <p:cNvPr id="885" name="Rectangle 75"/>
            <p:cNvSpPr/>
            <p:nvPr/>
          </p:nvSpPr>
          <p:spPr>
            <a:xfrm>
              <a:off x="484200" y="5643720"/>
              <a:ext cx="8229600" cy="5331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76"/>
            <p:cNvSpPr/>
            <p:nvPr/>
          </p:nvSpPr>
          <p:spPr>
            <a:xfrm>
              <a:off x="655920" y="5715000"/>
              <a:ext cx="760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Help your employees succe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7" name="Picture 77" descr="C:\Documents and Settings\Microlabs\Application Data\Microsoft\Media Catalog\Downloaded Clips\cl0\BS00023_.wmf"/>
            <p:cNvPicPr/>
            <p:nvPr/>
          </p:nvPicPr>
          <p:blipFill>
            <a:blip r:embed="rId8"/>
            <a:stretch/>
          </p:blipFill>
          <p:spPr>
            <a:xfrm>
              <a:off x="560520" y="5715000"/>
              <a:ext cx="539640" cy="372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7884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he G.M. Sets the 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Group 59"/>
          <p:cNvGrpSpPr/>
          <p:nvPr/>
        </p:nvGrpSpPr>
        <p:grpSpPr>
          <a:xfrm>
            <a:off x="552600" y="990720"/>
            <a:ext cx="8229600" cy="914400"/>
            <a:chOff x="552600" y="990720"/>
            <a:chExt cx="8229600" cy="914400"/>
          </a:xfrm>
        </p:grpSpPr>
        <p:sp>
          <p:nvSpPr>
            <p:cNvPr id="479" name="Rectangle 9"/>
            <p:cNvSpPr/>
            <p:nvPr/>
          </p:nvSpPr>
          <p:spPr>
            <a:xfrm>
              <a:off x="552600" y="990720"/>
              <a:ext cx="8229600" cy="9144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Text Box 10"/>
            <p:cNvSpPr/>
            <p:nvPr/>
          </p:nvSpPr>
          <p:spPr>
            <a:xfrm>
              <a:off x="723960" y="1062000"/>
              <a:ext cx="8001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G.M.s feelings &amp; actions about issues will likely impact hotel staff attitudes about those issu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1" name="Picture 6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628560" y="1062000"/>
              <a:ext cx="540000" cy="37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2" name="Group 60"/>
          <p:cNvGrpSpPr/>
          <p:nvPr/>
        </p:nvGrpSpPr>
        <p:grpSpPr>
          <a:xfrm>
            <a:off x="514440" y="2076480"/>
            <a:ext cx="8229600" cy="914400"/>
            <a:chOff x="514440" y="2076480"/>
            <a:chExt cx="8229600" cy="914400"/>
          </a:xfrm>
        </p:grpSpPr>
        <p:sp>
          <p:nvSpPr>
            <p:cNvPr id="483" name="Rectangle 29"/>
            <p:cNvSpPr/>
            <p:nvPr/>
          </p:nvSpPr>
          <p:spPr>
            <a:xfrm>
              <a:off x="514440" y="2076480"/>
              <a:ext cx="8229600" cy="9144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Text Box 30"/>
            <p:cNvSpPr/>
            <p:nvPr/>
          </p:nvSpPr>
          <p:spPr>
            <a:xfrm>
              <a:off x="685800" y="2152800"/>
              <a:ext cx="8001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.M.s personally direct only the work of department heads and, perhaps, relatively few other staff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5" name="Picture 31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590400" y="2152800"/>
              <a:ext cx="540000" cy="39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6" name="Group 61"/>
          <p:cNvGrpSpPr/>
          <p:nvPr/>
        </p:nvGrpSpPr>
        <p:grpSpPr>
          <a:xfrm>
            <a:off x="533520" y="3143160"/>
            <a:ext cx="8229600" cy="901800"/>
            <a:chOff x="533520" y="3143160"/>
            <a:chExt cx="8229600" cy="901800"/>
          </a:xfrm>
        </p:grpSpPr>
        <p:sp>
          <p:nvSpPr>
            <p:cNvPr id="487" name="Rectangle 33"/>
            <p:cNvSpPr/>
            <p:nvPr/>
          </p:nvSpPr>
          <p:spPr>
            <a:xfrm>
              <a:off x="533520" y="3143160"/>
              <a:ext cx="8229600" cy="8953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Text Box 34"/>
            <p:cNvSpPr/>
            <p:nvPr/>
          </p:nvSpPr>
          <p:spPr>
            <a:xfrm>
              <a:off x="704880" y="3219480"/>
              <a:ext cx="8001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.M.s’ interaction with department heads directly impacts how they interact with their own staff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9" name="Picture 35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609480" y="3219480"/>
              <a:ext cx="540000" cy="39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0" name="Group 62"/>
          <p:cNvGrpSpPr/>
          <p:nvPr/>
        </p:nvGrpSpPr>
        <p:grpSpPr>
          <a:xfrm>
            <a:off x="2819520" y="4172040"/>
            <a:ext cx="3047760" cy="990360"/>
            <a:chOff x="2819520" y="4172040"/>
            <a:chExt cx="3047760" cy="990360"/>
          </a:xfrm>
        </p:grpSpPr>
        <p:sp>
          <p:nvSpPr>
            <p:cNvPr id="491" name="AutoShape 41"/>
            <p:cNvSpPr/>
            <p:nvPr/>
          </p:nvSpPr>
          <p:spPr>
            <a:xfrm>
              <a:off x="2819520" y="4172040"/>
              <a:ext cx="3047760" cy="99036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Text Box 42"/>
            <p:cNvSpPr/>
            <p:nvPr/>
          </p:nvSpPr>
          <p:spPr>
            <a:xfrm>
              <a:off x="3657600" y="4400280"/>
              <a:ext cx="146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Influe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Group 63"/>
          <p:cNvGrpSpPr/>
          <p:nvPr/>
        </p:nvGrpSpPr>
        <p:grpSpPr>
          <a:xfrm>
            <a:off x="380880" y="5238720"/>
            <a:ext cx="8143920" cy="914400"/>
            <a:chOff x="380880" y="5238720"/>
            <a:chExt cx="8143920" cy="914400"/>
          </a:xfrm>
        </p:grpSpPr>
        <p:sp>
          <p:nvSpPr>
            <p:cNvPr id="494" name="Rectangle 57"/>
            <p:cNvSpPr/>
            <p:nvPr/>
          </p:nvSpPr>
          <p:spPr>
            <a:xfrm>
              <a:off x="380880" y="5238720"/>
              <a:ext cx="2438640" cy="9144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Text Box 48"/>
            <p:cNvSpPr/>
            <p:nvPr/>
          </p:nvSpPr>
          <p:spPr>
            <a:xfrm>
              <a:off x="380880" y="546732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evel of mora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Rectangle 49"/>
            <p:cNvSpPr/>
            <p:nvPr/>
          </p:nvSpPr>
          <p:spPr>
            <a:xfrm>
              <a:off x="6086520" y="5238720"/>
              <a:ext cx="2438280" cy="9144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Text Box 51"/>
            <p:cNvSpPr/>
            <p:nvPr/>
          </p:nvSpPr>
          <p:spPr>
            <a:xfrm>
              <a:off x="6162840" y="5315040"/>
              <a:ext cx="2361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esired product   &amp; service qual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Rectangle 54"/>
            <p:cNvSpPr/>
            <p:nvPr/>
          </p:nvSpPr>
          <p:spPr>
            <a:xfrm>
              <a:off x="3197160" y="5238720"/>
              <a:ext cx="2438640" cy="9144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Text Box 55"/>
            <p:cNvSpPr/>
            <p:nvPr/>
          </p:nvSpPr>
          <p:spPr>
            <a:xfrm>
              <a:off x="3273480" y="5315040"/>
              <a:ext cx="236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mployee             turnover r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Text Box 58"/>
            <p:cNvSpPr/>
            <p:nvPr/>
          </p:nvSpPr>
          <p:spPr>
            <a:xfrm>
              <a:off x="457200" y="5315040"/>
              <a:ext cx="2362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65"/>
          <p:cNvSpPr/>
          <p:nvPr/>
        </p:nvSpPr>
        <p:spPr>
          <a:xfrm>
            <a:off x="685800" y="640080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304560" y="78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nagement Basics: Leade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Text Box 3"/>
          <p:cNvSpPr/>
          <p:nvPr/>
        </p:nvSpPr>
        <p:spPr>
          <a:xfrm>
            <a:off x="1981080" y="804960"/>
            <a:ext cx="518184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ffective leaders wil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0" name="Group 4"/>
          <p:cNvGrpSpPr/>
          <p:nvPr/>
        </p:nvGrpSpPr>
        <p:grpSpPr>
          <a:xfrm>
            <a:off x="484200" y="1295280"/>
            <a:ext cx="8229600" cy="533160"/>
            <a:chOff x="484200" y="1295280"/>
            <a:chExt cx="8229600" cy="533160"/>
          </a:xfrm>
        </p:grpSpPr>
        <p:sp>
          <p:nvSpPr>
            <p:cNvPr id="891" name="Rectangle 5"/>
            <p:cNvSpPr/>
            <p:nvPr/>
          </p:nvSpPr>
          <p:spPr>
            <a:xfrm>
              <a:off x="484200" y="1295280"/>
              <a:ext cx="8229600" cy="5331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Text Box 6"/>
            <p:cNvSpPr/>
            <p:nvPr/>
          </p:nvSpPr>
          <p:spPr>
            <a:xfrm>
              <a:off x="655920" y="1366560"/>
              <a:ext cx="760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implement the property’s Mission State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3" name="Picture 7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560520" y="1366560"/>
              <a:ext cx="539640" cy="37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4" name="Group 56"/>
          <p:cNvGrpSpPr/>
          <p:nvPr/>
        </p:nvGrpSpPr>
        <p:grpSpPr>
          <a:xfrm>
            <a:off x="484200" y="1905120"/>
            <a:ext cx="8229600" cy="752040"/>
            <a:chOff x="484200" y="1905120"/>
            <a:chExt cx="8229600" cy="752040"/>
          </a:xfrm>
        </p:grpSpPr>
        <p:sp>
          <p:nvSpPr>
            <p:cNvPr id="895" name="Rectangle 8"/>
            <p:cNvSpPr/>
            <p:nvPr/>
          </p:nvSpPr>
          <p:spPr>
            <a:xfrm>
              <a:off x="484200" y="1905120"/>
              <a:ext cx="8229600" cy="69984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Text Box 9"/>
            <p:cNvSpPr/>
            <p:nvPr/>
          </p:nvSpPr>
          <p:spPr>
            <a:xfrm>
              <a:off x="655560" y="1905120"/>
              <a:ext cx="805824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have an objective &amp; measurable “picture” of hotel’s desired fu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7" name="Picture 10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560520" y="1981080"/>
              <a:ext cx="539640" cy="372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8" name="Group 57"/>
          <p:cNvGrpSpPr/>
          <p:nvPr/>
        </p:nvGrpSpPr>
        <p:grpSpPr>
          <a:xfrm>
            <a:off x="484200" y="2709720"/>
            <a:ext cx="8202600" cy="1081080"/>
            <a:chOff x="484200" y="2709720"/>
            <a:chExt cx="8202600" cy="1081080"/>
          </a:xfrm>
        </p:grpSpPr>
        <p:sp>
          <p:nvSpPr>
            <p:cNvPr id="899" name="Rectangle 35"/>
            <p:cNvSpPr/>
            <p:nvPr/>
          </p:nvSpPr>
          <p:spPr>
            <a:xfrm>
              <a:off x="484200" y="2709720"/>
              <a:ext cx="8202600" cy="10407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Text Box 36"/>
            <p:cNvSpPr/>
            <p:nvPr/>
          </p:nvSpPr>
          <p:spPr>
            <a:xfrm>
              <a:off x="654840" y="2709720"/>
              <a:ext cx="803160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help others develop the knowledge and skills needed to attain hotel’s vision (e.g., orientation, training, and coaching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01" name="Picture 37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560160" y="2814480"/>
              <a:ext cx="537840" cy="512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2" name="Group 38"/>
          <p:cNvGrpSpPr/>
          <p:nvPr/>
        </p:nvGrpSpPr>
        <p:grpSpPr>
          <a:xfrm>
            <a:off x="457200" y="3809880"/>
            <a:ext cx="8229600" cy="533160"/>
            <a:chOff x="457200" y="3809880"/>
            <a:chExt cx="8229600" cy="533160"/>
          </a:xfrm>
        </p:grpSpPr>
        <p:sp>
          <p:nvSpPr>
            <p:cNvPr id="903" name="Rectangle 39"/>
            <p:cNvSpPr/>
            <p:nvPr/>
          </p:nvSpPr>
          <p:spPr>
            <a:xfrm>
              <a:off x="457200" y="3809880"/>
              <a:ext cx="8229600" cy="5331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Text Box 40"/>
            <p:cNvSpPr/>
            <p:nvPr/>
          </p:nvSpPr>
          <p:spPr>
            <a:xfrm>
              <a:off x="628920" y="3881160"/>
              <a:ext cx="760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utilize the empowerment proces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05" name="Picture 41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533520" y="3881160"/>
              <a:ext cx="539640" cy="37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6" name="Group 58"/>
          <p:cNvGrpSpPr/>
          <p:nvPr/>
        </p:nvGrpSpPr>
        <p:grpSpPr>
          <a:xfrm>
            <a:off x="484200" y="4419720"/>
            <a:ext cx="8229600" cy="533160"/>
            <a:chOff x="484200" y="4419720"/>
            <a:chExt cx="8229600" cy="533160"/>
          </a:xfrm>
        </p:grpSpPr>
        <p:sp>
          <p:nvSpPr>
            <p:cNvPr id="907" name="Rectangle 43"/>
            <p:cNvSpPr/>
            <p:nvPr/>
          </p:nvSpPr>
          <p:spPr>
            <a:xfrm>
              <a:off x="484200" y="4419720"/>
              <a:ext cx="8229600" cy="5331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Text Box 44"/>
            <p:cNvSpPr/>
            <p:nvPr/>
          </p:nvSpPr>
          <p:spPr>
            <a:xfrm>
              <a:off x="655560" y="4419720"/>
              <a:ext cx="805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develop team of staff committed to hotel’s succ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09" name="Picture 45" descr="C:\Documents and Settings\Microlabs\Application Data\Microsoft\Media Catalog\Downloaded Clips\cl0\BS00023_.wmf"/>
            <p:cNvPicPr/>
            <p:nvPr/>
          </p:nvPicPr>
          <p:blipFill>
            <a:blip r:embed="rId5"/>
            <a:stretch/>
          </p:blipFill>
          <p:spPr>
            <a:xfrm>
              <a:off x="560520" y="4495680"/>
              <a:ext cx="539640" cy="372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0" name="Group 59"/>
          <p:cNvGrpSpPr/>
          <p:nvPr/>
        </p:nvGrpSpPr>
        <p:grpSpPr>
          <a:xfrm>
            <a:off x="484200" y="4876920"/>
            <a:ext cx="8229600" cy="752040"/>
            <a:chOff x="484200" y="4876920"/>
            <a:chExt cx="8229600" cy="752040"/>
          </a:xfrm>
        </p:grpSpPr>
        <p:sp>
          <p:nvSpPr>
            <p:cNvPr id="911" name="Rectangle 46"/>
            <p:cNvSpPr/>
            <p:nvPr/>
          </p:nvSpPr>
          <p:spPr>
            <a:xfrm>
              <a:off x="484200" y="4876920"/>
              <a:ext cx="8229600" cy="69984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Text Box 47"/>
            <p:cNvSpPr/>
            <p:nvPr/>
          </p:nvSpPr>
          <p:spPr>
            <a:xfrm>
              <a:off x="655560" y="4876920"/>
              <a:ext cx="805824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achieve a reputation for quality service consistently delivered to guests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13" name="Picture 48" descr="C:\Documents and Settings\Microlabs\Application Data\Microsoft\Media Catalog\Downloaded Clips\cl0\BS00023_.wmf"/>
            <p:cNvPicPr/>
            <p:nvPr/>
          </p:nvPicPr>
          <p:blipFill>
            <a:blip r:embed="rId6"/>
            <a:stretch/>
          </p:blipFill>
          <p:spPr>
            <a:xfrm>
              <a:off x="560520" y="4952880"/>
              <a:ext cx="539640" cy="372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4" name="Group 60"/>
          <p:cNvGrpSpPr/>
          <p:nvPr/>
        </p:nvGrpSpPr>
        <p:grpSpPr>
          <a:xfrm>
            <a:off x="484200" y="5638680"/>
            <a:ext cx="8229600" cy="533520"/>
            <a:chOff x="484200" y="5638680"/>
            <a:chExt cx="8229600" cy="533520"/>
          </a:xfrm>
        </p:grpSpPr>
        <p:sp>
          <p:nvSpPr>
            <p:cNvPr id="915" name="Rectangle 49"/>
            <p:cNvSpPr/>
            <p:nvPr/>
          </p:nvSpPr>
          <p:spPr>
            <a:xfrm>
              <a:off x="484200" y="5638680"/>
              <a:ext cx="8229600" cy="5335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Text Box 50"/>
            <p:cNvSpPr/>
            <p:nvPr/>
          </p:nvSpPr>
          <p:spPr>
            <a:xfrm>
              <a:off x="655560" y="5638680"/>
              <a:ext cx="805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cultivate a reputation for fairness and hones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17" name="Picture 51" descr="C:\Documents and Settings\Microlabs\Application Data\Microsoft\Media Catalog\Downloaded Clips\cl0\BS00023_.wmf"/>
            <p:cNvPicPr/>
            <p:nvPr/>
          </p:nvPicPr>
          <p:blipFill>
            <a:blip r:embed="rId7"/>
            <a:stretch/>
          </p:blipFill>
          <p:spPr>
            <a:xfrm>
              <a:off x="560520" y="5715000"/>
              <a:ext cx="539640" cy="372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304560" y="78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nagement Basics: Discip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Text Box 19"/>
          <p:cNvSpPr/>
          <p:nvPr/>
        </p:nvSpPr>
        <p:spPr>
          <a:xfrm>
            <a:off x="1714680" y="2152800"/>
            <a:ext cx="563868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eps in a progressive discipline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99960" y="914400"/>
            <a:ext cx="8363160" cy="933480"/>
            <a:chOff x="399960" y="914400"/>
            <a:chExt cx="8363160" cy="933480"/>
          </a:xfrm>
        </p:grpSpPr>
        <p:sp>
          <p:nvSpPr>
            <p:cNvPr id="921" name="Rectangle 24"/>
            <p:cNvSpPr/>
            <p:nvPr/>
          </p:nvSpPr>
          <p:spPr>
            <a:xfrm>
              <a:off x="399960" y="933480"/>
              <a:ext cx="8229600" cy="9144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Text Box 25"/>
            <p:cNvSpPr/>
            <p:nvPr/>
          </p:nvSpPr>
          <p:spPr>
            <a:xfrm>
              <a:off x="571680" y="914400"/>
              <a:ext cx="819144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Discipline: activities reinforcing desired perform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or correcting undesired performance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3" name="Picture 26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514440" y="985680"/>
              <a:ext cx="539640" cy="373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4" name="Group 54"/>
          <p:cNvGrpSpPr/>
          <p:nvPr/>
        </p:nvGrpSpPr>
        <p:grpSpPr>
          <a:xfrm>
            <a:off x="1238400" y="2800440"/>
            <a:ext cx="6553080" cy="709560"/>
            <a:chOff x="1238400" y="2800440"/>
            <a:chExt cx="6553080" cy="709560"/>
          </a:xfrm>
        </p:grpSpPr>
        <p:sp>
          <p:nvSpPr>
            <p:cNvPr id="925" name="Rectangle 9"/>
            <p:cNvSpPr/>
            <p:nvPr/>
          </p:nvSpPr>
          <p:spPr>
            <a:xfrm>
              <a:off x="1238400" y="2800440"/>
              <a:ext cx="6553080" cy="4762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Text Box 10"/>
            <p:cNvSpPr/>
            <p:nvPr/>
          </p:nvSpPr>
          <p:spPr>
            <a:xfrm>
              <a:off x="1523880" y="2800440"/>
              <a:ext cx="626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Oral warning (no entry in employee’s record)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Line 14"/>
            <p:cNvSpPr/>
            <p:nvPr/>
          </p:nvSpPr>
          <p:spPr>
            <a:xfrm>
              <a:off x="4591080" y="3276720"/>
              <a:ext cx="3240" cy="233280"/>
            </a:xfrm>
            <a:prstGeom prst="line">
              <a:avLst/>
            </a:prstGeom>
            <a:ln w="38160">
              <a:solidFill>
                <a:srgbClr val="ff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8" name="Group 58"/>
          <p:cNvGrpSpPr/>
          <p:nvPr/>
        </p:nvGrpSpPr>
        <p:grpSpPr>
          <a:xfrm>
            <a:off x="1238400" y="5562720"/>
            <a:ext cx="6553080" cy="511920"/>
            <a:chOff x="1238400" y="5562720"/>
            <a:chExt cx="6553080" cy="511920"/>
          </a:xfrm>
        </p:grpSpPr>
        <p:sp>
          <p:nvSpPr>
            <p:cNvPr id="929" name="Rectangle 53"/>
            <p:cNvSpPr/>
            <p:nvPr/>
          </p:nvSpPr>
          <p:spPr>
            <a:xfrm>
              <a:off x="1238400" y="5562720"/>
              <a:ext cx="6553080" cy="4762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Text Box 15"/>
            <p:cNvSpPr/>
            <p:nvPr/>
          </p:nvSpPr>
          <p:spPr>
            <a:xfrm>
              <a:off x="1311120" y="5614920"/>
              <a:ext cx="640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Dischar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1" name="Group 55"/>
          <p:cNvGrpSpPr/>
          <p:nvPr/>
        </p:nvGrpSpPr>
        <p:grpSpPr>
          <a:xfrm>
            <a:off x="1238400" y="3467160"/>
            <a:ext cx="6553080" cy="728640"/>
            <a:chOff x="1238400" y="3467160"/>
            <a:chExt cx="6553080" cy="728640"/>
          </a:xfrm>
        </p:grpSpPr>
        <p:sp>
          <p:nvSpPr>
            <p:cNvPr id="932" name="Rectangle 50"/>
            <p:cNvSpPr/>
            <p:nvPr/>
          </p:nvSpPr>
          <p:spPr>
            <a:xfrm>
              <a:off x="1238400" y="3467160"/>
              <a:ext cx="6553080" cy="4762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Text Box 11"/>
            <p:cNvSpPr/>
            <p:nvPr/>
          </p:nvSpPr>
          <p:spPr>
            <a:xfrm>
              <a:off x="1447920" y="3467160"/>
              <a:ext cx="609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Oral warning (entry in employee’s record)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Line 43"/>
            <p:cNvSpPr/>
            <p:nvPr/>
          </p:nvSpPr>
          <p:spPr>
            <a:xfrm>
              <a:off x="4591080" y="3962520"/>
              <a:ext cx="3240" cy="233280"/>
            </a:xfrm>
            <a:prstGeom prst="line">
              <a:avLst/>
            </a:prstGeom>
            <a:ln w="38160">
              <a:solidFill>
                <a:srgbClr val="ff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5" name="Group 56"/>
          <p:cNvGrpSpPr/>
          <p:nvPr/>
        </p:nvGrpSpPr>
        <p:grpSpPr>
          <a:xfrm>
            <a:off x="1238400" y="4191120"/>
            <a:ext cx="6553080" cy="690480"/>
            <a:chOff x="1238400" y="4191120"/>
            <a:chExt cx="6553080" cy="690480"/>
          </a:xfrm>
        </p:grpSpPr>
        <p:sp>
          <p:nvSpPr>
            <p:cNvPr id="936" name="Rectangle 51"/>
            <p:cNvSpPr/>
            <p:nvPr/>
          </p:nvSpPr>
          <p:spPr>
            <a:xfrm>
              <a:off x="1238400" y="4191120"/>
              <a:ext cx="6553080" cy="4762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Text Box 12"/>
            <p:cNvSpPr/>
            <p:nvPr/>
          </p:nvSpPr>
          <p:spPr>
            <a:xfrm>
              <a:off x="1352520" y="4195800"/>
              <a:ext cx="609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Written reprimand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Line 44"/>
            <p:cNvSpPr/>
            <p:nvPr/>
          </p:nvSpPr>
          <p:spPr>
            <a:xfrm>
              <a:off x="4591080" y="4648320"/>
              <a:ext cx="3240" cy="233280"/>
            </a:xfrm>
            <a:prstGeom prst="line">
              <a:avLst/>
            </a:prstGeom>
            <a:ln w="38160">
              <a:solidFill>
                <a:srgbClr val="ff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9" name="Group 57"/>
          <p:cNvGrpSpPr/>
          <p:nvPr/>
        </p:nvGrpSpPr>
        <p:grpSpPr>
          <a:xfrm>
            <a:off x="1238400" y="4876920"/>
            <a:ext cx="6553080" cy="709560"/>
            <a:chOff x="1238400" y="4876920"/>
            <a:chExt cx="6553080" cy="709560"/>
          </a:xfrm>
        </p:grpSpPr>
        <p:sp>
          <p:nvSpPr>
            <p:cNvPr id="940" name="Rectangle 52"/>
            <p:cNvSpPr/>
            <p:nvPr/>
          </p:nvSpPr>
          <p:spPr>
            <a:xfrm>
              <a:off x="1238400" y="4876920"/>
              <a:ext cx="6553080" cy="4762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Text Box 13"/>
            <p:cNvSpPr/>
            <p:nvPr/>
          </p:nvSpPr>
          <p:spPr>
            <a:xfrm>
              <a:off x="1501920" y="4890960"/>
              <a:ext cx="609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Suspension for specific number of day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Line 45"/>
            <p:cNvSpPr/>
            <p:nvPr/>
          </p:nvSpPr>
          <p:spPr>
            <a:xfrm>
              <a:off x="4591080" y="5353200"/>
              <a:ext cx="3240" cy="233280"/>
            </a:xfrm>
            <a:prstGeom prst="line">
              <a:avLst/>
            </a:prstGeom>
            <a:ln w="38160">
              <a:solidFill>
                <a:srgbClr val="ff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3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3" name="Group 22"/>
          <p:cNvGrpSpPr/>
          <p:nvPr/>
        </p:nvGrpSpPr>
        <p:grpSpPr>
          <a:xfrm>
            <a:off x="4919760" y="1447920"/>
            <a:ext cx="3790800" cy="4657680"/>
            <a:chOff x="4919760" y="1447920"/>
            <a:chExt cx="3790800" cy="4657680"/>
          </a:xfrm>
        </p:grpSpPr>
        <p:sp>
          <p:nvSpPr>
            <p:cNvPr id="944" name="AutoShape 5"/>
            <p:cNvSpPr/>
            <p:nvPr/>
          </p:nvSpPr>
          <p:spPr>
            <a:xfrm>
              <a:off x="4919760" y="1447920"/>
              <a:ext cx="3733560" cy="4657680"/>
            </a:xfrm>
            <a:custGeom>
              <a:avLst/>
              <a:gdLst>
                <a:gd name="textAreaLeft" fmla="*/ 182160 w 3733560"/>
                <a:gd name="textAreaRight" fmla="*/ 3551400 w 3733560"/>
                <a:gd name="textAreaTop" fmla="*/ 182160 h 4657680"/>
                <a:gd name="textAreaBottom" fmla="*/ 4475520 h 4657680"/>
              </a:gdLst>
              <a:ahLst/>
              <a:rect l="textAreaLeft" t="textAreaTop" r="textAreaRight" b="textAreaBottom"/>
              <a:pathLst>
                <a:path w="21600" h="26946">
                  <a:moveTo>
                    <a:pt x="3600" y="0"/>
                  </a:moveTo>
                  <a:arcTo wR="3600" hR="3600" stAng="16200000" swAng="-5400000"/>
                  <a:lnTo>
                    <a:pt x="0" y="23346"/>
                  </a:lnTo>
                  <a:arcTo wR="3600" hR="3600" stAng="10800000" swAng="-5400000"/>
                  <a:lnTo>
                    <a:pt x="18000" y="269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Text Box 12"/>
            <p:cNvSpPr/>
            <p:nvPr/>
          </p:nvSpPr>
          <p:spPr>
            <a:xfrm>
              <a:off x="5276880" y="1914480"/>
              <a:ext cx="3433680" cy="389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Have high standards and expect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Support individual members and maintain trusting and respectful relationship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Practice participative management and solicit input from memb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Demonstrate that own personal goals and individual team member goals should not be placed before team goa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Share credit for team success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46" name="Picture 13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5010120" y="1981440"/>
              <a:ext cx="304920" cy="2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7" name="Picture 14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4986360" y="2619360"/>
              <a:ext cx="304920" cy="2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8" name="Picture 15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5029200" y="3529080"/>
              <a:ext cx="304920" cy="2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9" name="Picture 19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5014800" y="4395960"/>
              <a:ext cx="304920" cy="2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20" descr="C:\Documents and Settings\Microlabs\Application Data\Microsoft\Media Catalog\Downloaded Clips\cl0\BS00023_.wmf"/>
            <p:cNvPicPr/>
            <p:nvPr/>
          </p:nvPicPr>
          <p:blipFill>
            <a:blip r:embed="rId5"/>
            <a:stretch/>
          </p:blipFill>
          <p:spPr>
            <a:xfrm>
              <a:off x="5029200" y="5519880"/>
              <a:ext cx="304920" cy="22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1" name="Group 21"/>
          <p:cNvGrpSpPr/>
          <p:nvPr/>
        </p:nvGrpSpPr>
        <p:grpSpPr>
          <a:xfrm>
            <a:off x="461880" y="1447920"/>
            <a:ext cx="3733920" cy="4657680"/>
            <a:chOff x="461880" y="1447920"/>
            <a:chExt cx="3733920" cy="4657680"/>
          </a:xfrm>
        </p:grpSpPr>
        <p:sp>
          <p:nvSpPr>
            <p:cNvPr id="952" name="AutoShape 3"/>
            <p:cNvSpPr/>
            <p:nvPr/>
          </p:nvSpPr>
          <p:spPr>
            <a:xfrm>
              <a:off x="461880" y="1447920"/>
              <a:ext cx="3733920" cy="4657680"/>
            </a:xfrm>
            <a:custGeom>
              <a:avLst/>
              <a:gdLst>
                <a:gd name="textAreaLeft" fmla="*/ 182160 w 3733920"/>
                <a:gd name="textAreaRight" fmla="*/ 3551760 w 3733920"/>
                <a:gd name="textAreaTop" fmla="*/ 182160 h 4657680"/>
                <a:gd name="textAreaBottom" fmla="*/ 4475520 h 4657680"/>
              </a:gdLst>
              <a:ahLst/>
              <a:rect l="textAreaLeft" t="textAreaTop" r="textAreaRight" b="textAreaBottom"/>
              <a:pathLst>
                <a:path w="21600" h="26943">
                  <a:moveTo>
                    <a:pt x="3600" y="0"/>
                  </a:moveTo>
                  <a:arcTo wR="3600" hR="3600" stAng="16200000" swAng="-5400000"/>
                  <a:lnTo>
                    <a:pt x="0" y="23343"/>
                  </a:lnTo>
                  <a:arcTo wR="3600" hR="3600" stAng="10800000" swAng="-5400000"/>
                  <a:lnTo>
                    <a:pt x="18000" y="269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Text Box 7"/>
            <p:cNvSpPr/>
            <p:nvPr/>
          </p:nvSpPr>
          <p:spPr>
            <a:xfrm>
              <a:off x="938160" y="1838520"/>
              <a:ext cx="3124080" cy="31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More control over work responsib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Make work assignments within the te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Schedule themselv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Evaluate each other’s 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Assign compensation increases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54" name="Picture 8" descr="C:\Documents and Settings\Microlabs\Application Data\Microsoft\Media Catalog\Downloaded Clips\cl0\BS00023_.wmf"/>
            <p:cNvPicPr/>
            <p:nvPr/>
          </p:nvPicPr>
          <p:blipFill>
            <a:blip r:embed="rId6"/>
            <a:stretch/>
          </p:blipFill>
          <p:spPr>
            <a:xfrm>
              <a:off x="652320" y="1941480"/>
              <a:ext cx="304920" cy="22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5" name="Picture 9" descr="C:\Documents and Settings\Microlabs\Application Data\Microsoft\Media Catalog\Downloaded Clips\cl0\BS00023_.wmf"/>
            <p:cNvPicPr/>
            <p:nvPr/>
          </p:nvPicPr>
          <p:blipFill>
            <a:blip r:embed="rId7"/>
            <a:stretch/>
          </p:blipFill>
          <p:spPr>
            <a:xfrm>
              <a:off x="652320" y="2691000"/>
              <a:ext cx="304920" cy="2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10" descr="C:\Documents and Settings\Microlabs\Application Data\Microsoft\Media Catalog\Downloaded Clips\cl0\BS00023_.wmf"/>
            <p:cNvPicPr/>
            <p:nvPr/>
          </p:nvPicPr>
          <p:blipFill>
            <a:blip r:embed="rId8"/>
            <a:stretch/>
          </p:blipFill>
          <p:spPr>
            <a:xfrm>
              <a:off x="652320" y="3471840"/>
              <a:ext cx="304920" cy="22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7" name="Picture 11" descr="C:\Documents and Settings\Microlabs\Application Data\Microsoft\Media Catalog\Downloaded Clips\cl0\BS00023_.wmf"/>
            <p:cNvPicPr/>
            <p:nvPr/>
          </p:nvPicPr>
          <p:blipFill>
            <a:blip r:embed="rId9"/>
            <a:stretch/>
          </p:blipFill>
          <p:spPr>
            <a:xfrm>
              <a:off x="652320" y="3876840"/>
              <a:ext cx="304920" cy="2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8" name="Picture 18" descr="C:\Documents and Settings\Microlabs\Application Data\Microsoft\Media Catalog\Downloaded Clips\cl0\BS00023_.wmf"/>
            <p:cNvPicPr/>
            <p:nvPr/>
          </p:nvPicPr>
          <p:blipFill>
            <a:blip r:embed="rId10"/>
            <a:stretch/>
          </p:blipFill>
          <p:spPr>
            <a:xfrm>
              <a:off x="652320" y="4429080"/>
              <a:ext cx="304920" cy="225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85440" y="78840"/>
            <a:ext cx="80773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eam Building Tac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 Box 4"/>
          <p:cNvSpPr/>
          <p:nvPr/>
        </p:nvSpPr>
        <p:spPr>
          <a:xfrm>
            <a:off x="514440" y="1061640"/>
            <a:ext cx="3676680" cy="79596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elf-directed te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Text Box 6"/>
          <p:cNvSpPr/>
          <p:nvPr/>
        </p:nvSpPr>
        <p:spPr>
          <a:xfrm>
            <a:off x="4957920" y="1082520"/>
            <a:ext cx="3676320" cy="82548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o be a good team leader, the G.M. m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Text Box 16"/>
          <p:cNvSpPr/>
          <p:nvPr/>
        </p:nvSpPr>
        <p:spPr>
          <a:xfrm>
            <a:off x="404640" y="1176480"/>
            <a:ext cx="828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500"/>
                            </p:stCondLst>
                            <p:childTnLst>
                              <p:par>
                                <p:cTn id="853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5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500"/>
                            </p:stCondLst>
                            <p:childTnLst>
                              <p:par>
                                <p:cTn id="865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7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304560" y="78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.M. Compet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4" name="Group 3"/>
          <p:cNvGrpSpPr/>
          <p:nvPr/>
        </p:nvGrpSpPr>
        <p:grpSpPr>
          <a:xfrm>
            <a:off x="484200" y="1295280"/>
            <a:ext cx="8229600" cy="533160"/>
            <a:chOff x="484200" y="1295280"/>
            <a:chExt cx="8229600" cy="533160"/>
          </a:xfrm>
        </p:grpSpPr>
        <p:sp>
          <p:nvSpPr>
            <p:cNvPr id="965" name="Rectangle 4"/>
            <p:cNvSpPr/>
            <p:nvPr/>
          </p:nvSpPr>
          <p:spPr>
            <a:xfrm>
              <a:off x="484200" y="1295280"/>
              <a:ext cx="8229600" cy="5331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Text Box 5"/>
            <p:cNvSpPr/>
            <p:nvPr/>
          </p:nvSpPr>
          <p:spPr>
            <a:xfrm>
              <a:off x="655920" y="1366560"/>
              <a:ext cx="760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G.M.s never have a daily routine; every day is differ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67" name="Picture 6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560520" y="1366560"/>
              <a:ext cx="539640" cy="37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68" name="Group 7"/>
          <p:cNvGrpSpPr/>
          <p:nvPr/>
        </p:nvGrpSpPr>
        <p:grpSpPr>
          <a:xfrm>
            <a:off x="484200" y="3662280"/>
            <a:ext cx="8229600" cy="533160"/>
            <a:chOff x="484200" y="3662280"/>
            <a:chExt cx="8229600" cy="533160"/>
          </a:xfrm>
        </p:grpSpPr>
        <p:sp>
          <p:nvSpPr>
            <p:cNvPr id="969" name="Rectangle 8"/>
            <p:cNvSpPr/>
            <p:nvPr/>
          </p:nvSpPr>
          <p:spPr>
            <a:xfrm>
              <a:off x="484200" y="3662280"/>
              <a:ext cx="8229600" cy="5331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Text Box 9"/>
            <p:cNvSpPr/>
            <p:nvPr/>
          </p:nvSpPr>
          <p:spPr>
            <a:xfrm>
              <a:off x="655920" y="3733560"/>
              <a:ext cx="760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Daily involvement in guest relations are quite visible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71" name="Picture 10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560520" y="3733560"/>
              <a:ext cx="539640" cy="37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2" name="Group 20"/>
          <p:cNvGrpSpPr/>
          <p:nvPr/>
        </p:nvGrpSpPr>
        <p:grpSpPr>
          <a:xfrm>
            <a:off x="484200" y="2143080"/>
            <a:ext cx="8229600" cy="1234080"/>
            <a:chOff x="484200" y="2143080"/>
            <a:chExt cx="8229600" cy="1234080"/>
          </a:xfrm>
        </p:grpSpPr>
        <p:sp>
          <p:nvSpPr>
            <p:cNvPr id="973" name="Rectangle 11"/>
            <p:cNvSpPr/>
            <p:nvPr/>
          </p:nvSpPr>
          <p:spPr>
            <a:xfrm>
              <a:off x="484200" y="2143080"/>
              <a:ext cx="8229600" cy="12193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74" name="Picture 12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560520" y="2219400"/>
              <a:ext cx="53964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5" name="Text Box 13"/>
            <p:cNvSpPr/>
            <p:nvPr/>
          </p:nvSpPr>
          <p:spPr>
            <a:xfrm>
              <a:off x="655560" y="2185920"/>
              <a:ext cx="8058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Actual daily activities undertaken by a G.M. vary from day-to-day &amp; month-to-month as well as from property-to-property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6" name="Group 21"/>
          <p:cNvGrpSpPr/>
          <p:nvPr/>
        </p:nvGrpSpPr>
        <p:grpSpPr>
          <a:xfrm>
            <a:off x="438120" y="4581360"/>
            <a:ext cx="8229600" cy="957600"/>
            <a:chOff x="438120" y="4581360"/>
            <a:chExt cx="8229600" cy="957600"/>
          </a:xfrm>
        </p:grpSpPr>
        <p:sp>
          <p:nvSpPr>
            <p:cNvPr id="977" name="Rectangle 14"/>
            <p:cNvSpPr/>
            <p:nvPr/>
          </p:nvSpPr>
          <p:spPr>
            <a:xfrm>
              <a:off x="438120" y="4581360"/>
              <a:ext cx="8229600" cy="9576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78" name="Picture 15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514440" y="4657680"/>
              <a:ext cx="53964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Text Box 16"/>
            <p:cNvSpPr/>
            <p:nvPr/>
          </p:nvSpPr>
          <p:spPr>
            <a:xfrm>
              <a:off x="609480" y="4624560"/>
              <a:ext cx="8058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G.M. is on duty eight or more hours daily and is often on-call even when not on the property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95000" y="-540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.M. Competencies: Employ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1" name=""/>
          <p:cNvGraphicFramePr/>
          <p:nvPr/>
        </p:nvGraphicFramePr>
        <p:xfrm>
          <a:off x="419040" y="876240"/>
          <a:ext cx="8400960" cy="4754520"/>
        </p:xfrm>
        <a:graphic>
          <a:graphicData uri="http://schemas.openxmlformats.org/drawingml/2006/table">
            <a:tbl>
              <a:tblPr/>
              <a:tblGrid>
                <a:gridCol w="8400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Possible interactions with employees: positive ex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490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Daily conversations with long-term sta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Learning employees’ suggestions about possible operating improve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  <a:tr h="490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Welcoming new staff to the te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Congratulating personnel about significant events in their families’ liv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  <a:tr h="490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Mentoring younger work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Following employees’ careers as they are promoted within the organiz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  <a:tr h="490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Providing non-job related advice when reques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Observing employees at a company picnic enjoy themselv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  <a:tr h="490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Observing staff who participate in community organizations/activi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8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95000" y="-540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.M. Competencies: Employ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3" name=""/>
          <p:cNvGraphicFramePr/>
          <p:nvPr/>
        </p:nvGraphicFramePr>
        <p:xfrm>
          <a:off x="419040" y="876240"/>
          <a:ext cx="8400960" cy="5121360"/>
        </p:xfrm>
        <a:graphic>
          <a:graphicData uri="http://schemas.openxmlformats.org/drawingml/2006/table">
            <a:tbl>
              <a:tblPr/>
              <a:tblGrid>
                <a:gridCol w="8400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Possible interactions with employees: negative ex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Disciplining or terminating sta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Confronting staff known to be steal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Learning about illegal acts committed off-property by sta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Assigning work responsibilities to cover “no show” employe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Discovering employee “sabotage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Supervising staff violating hotel policies, requirements, and rul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Comforting an employee whose child has passed aw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Observing an intoxicated employee attempting to come to wor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Explaining to staff why they did not get promotions they sou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5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4" name=""/>
          <p:cNvGraphicFramePr/>
          <p:nvPr/>
        </p:nvGraphicFramePr>
        <p:xfrm>
          <a:off x="419040" y="876240"/>
          <a:ext cx="8400960" cy="5303880"/>
        </p:xfrm>
        <a:graphic>
          <a:graphicData uri="http://schemas.openxmlformats.org/drawingml/2006/table">
            <a:tbl>
              <a:tblPr/>
              <a:tblGrid>
                <a:gridCol w="8400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Possible interactions with guests: positive ex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46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Interacting with frequent gues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Receiving spontaneous “Thank You Notes” from happy gues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  <a:tr h="696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Observing hotel guests celebrate significant family / professional occas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Providing service / assistance to gues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  <a:tr h="696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Receiving input from guests who genuinely want the hotel to be successfu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Interacting with guests as peers at community / professional meeting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  <a:tr h="696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Providing accommodations to guests stranded by adverse travel condi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Receiving guest input about hospitable staff memb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  <a:tr h="46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Interacting with frequent gues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95000" y="78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.M. Competencies with Gu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2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6" name=""/>
          <p:cNvGraphicFramePr/>
          <p:nvPr/>
        </p:nvGraphicFramePr>
        <p:xfrm>
          <a:off x="419040" y="762120"/>
          <a:ext cx="8400960" cy="5437080"/>
        </p:xfrm>
        <a:graphic>
          <a:graphicData uri="http://schemas.openxmlformats.org/drawingml/2006/table">
            <a:tbl>
              <a:tblPr/>
              <a:tblGrid>
                <a:gridCol w="8400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Possible interactions with guests: negative ex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Interacting with police called to hotel for disturbances or illegal guest activiti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49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Guest deaths in sleeping rooms or in the hotel’s public spac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  <a:tr h="49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Dealing with visibly intoxicated gues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49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Preventing on-site prostitu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  <a:tr h="49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Preventing guest theft of money, products and/or services from the hote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49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Preventing property vandalis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  <a:tr h="49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Calming irate guests stranded by adverse travel condi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49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Discovering overt guest room dama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Interacting with police called to hotel for disturbances or illegal guest activiti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95000" y="78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.M.Competencies with Gu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9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.M.s Must Manage: Organizational Lev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3" name="Group 47"/>
          <p:cNvGrpSpPr/>
          <p:nvPr/>
        </p:nvGrpSpPr>
        <p:grpSpPr>
          <a:xfrm>
            <a:off x="533520" y="5257800"/>
            <a:ext cx="8229600" cy="901800"/>
            <a:chOff x="533520" y="5257800"/>
            <a:chExt cx="8229600" cy="901800"/>
          </a:xfrm>
        </p:grpSpPr>
        <p:sp>
          <p:nvSpPr>
            <p:cNvPr id="504" name="Rectangle 43"/>
            <p:cNvSpPr/>
            <p:nvPr/>
          </p:nvSpPr>
          <p:spPr>
            <a:xfrm>
              <a:off x="533520" y="5257800"/>
              <a:ext cx="8229600" cy="8953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Text Box 44"/>
            <p:cNvSpPr/>
            <p:nvPr/>
          </p:nvSpPr>
          <p:spPr>
            <a:xfrm>
              <a:off x="704880" y="5334120"/>
              <a:ext cx="8001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f resources available,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eopl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human resources) are the most complex and important for success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Group 62"/>
          <p:cNvGrpSpPr/>
          <p:nvPr/>
        </p:nvGrpSpPr>
        <p:grpSpPr>
          <a:xfrm>
            <a:off x="2152800" y="4267080"/>
            <a:ext cx="4647960" cy="914400"/>
            <a:chOff x="2152800" y="4267080"/>
            <a:chExt cx="4647960" cy="914400"/>
          </a:xfrm>
        </p:grpSpPr>
        <p:sp>
          <p:nvSpPr>
            <p:cNvPr id="507" name="Rectangle 56"/>
            <p:cNvSpPr/>
            <p:nvPr/>
          </p:nvSpPr>
          <p:spPr>
            <a:xfrm>
              <a:off x="2152800" y="4267080"/>
              <a:ext cx="4647960" cy="9144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Text Box 37"/>
            <p:cNvSpPr/>
            <p:nvPr/>
          </p:nvSpPr>
          <p:spPr>
            <a:xfrm>
              <a:off x="2370240" y="4476600"/>
              <a:ext cx="426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try-Level Employe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Group 59"/>
          <p:cNvGrpSpPr/>
          <p:nvPr/>
        </p:nvGrpSpPr>
        <p:grpSpPr>
          <a:xfrm>
            <a:off x="2152800" y="1028880"/>
            <a:ext cx="4647960" cy="1085760"/>
            <a:chOff x="2152800" y="1028880"/>
            <a:chExt cx="4647960" cy="1085760"/>
          </a:xfrm>
        </p:grpSpPr>
        <p:sp>
          <p:nvSpPr>
            <p:cNvPr id="510" name="Rectangle 20"/>
            <p:cNvSpPr/>
            <p:nvPr/>
          </p:nvSpPr>
          <p:spPr>
            <a:xfrm>
              <a:off x="2152800" y="1028880"/>
              <a:ext cx="4647960" cy="9144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Text Box 26"/>
            <p:cNvSpPr/>
            <p:nvPr/>
          </p:nvSpPr>
          <p:spPr>
            <a:xfrm>
              <a:off x="2370240" y="1238400"/>
              <a:ext cx="426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op-Level Management (G.M.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49"/>
            <p:cNvSpPr/>
            <p:nvPr/>
          </p:nvSpPr>
          <p:spPr>
            <a:xfrm>
              <a:off x="4362480" y="1962000"/>
              <a:ext cx="0" cy="152640"/>
            </a:xfrm>
            <a:prstGeom prst="line">
              <a:avLst/>
            </a:prstGeom>
            <a:ln w="381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" name="Group 60"/>
          <p:cNvGrpSpPr/>
          <p:nvPr/>
        </p:nvGrpSpPr>
        <p:grpSpPr>
          <a:xfrm>
            <a:off x="2152800" y="2114640"/>
            <a:ext cx="4647960" cy="1085760"/>
            <a:chOff x="2152800" y="2114640"/>
            <a:chExt cx="4647960" cy="1085760"/>
          </a:xfrm>
        </p:grpSpPr>
        <p:sp>
          <p:nvSpPr>
            <p:cNvPr id="514" name="Rectangle 30"/>
            <p:cNvSpPr/>
            <p:nvPr/>
          </p:nvSpPr>
          <p:spPr>
            <a:xfrm>
              <a:off x="2152800" y="2114640"/>
              <a:ext cx="4647960" cy="9144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Text Box 31"/>
            <p:cNvSpPr/>
            <p:nvPr/>
          </p:nvSpPr>
          <p:spPr>
            <a:xfrm>
              <a:off x="2370240" y="2190600"/>
              <a:ext cx="4260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iddle-Level Management (Department Head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57"/>
            <p:cNvSpPr/>
            <p:nvPr/>
          </p:nvSpPr>
          <p:spPr>
            <a:xfrm>
              <a:off x="4362480" y="3048120"/>
              <a:ext cx="0" cy="152280"/>
            </a:xfrm>
            <a:prstGeom prst="line">
              <a:avLst/>
            </a:prstGeom>
            <a:ln w="381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Group 61"/>
          <p:cNvGrpSpPr/>
          <p:nvPr/>
        </p:nvGrpSpPr>
        <p:grpSpPr>
          <a:xfrm>
            <a:off x="2152800" y="3181320"/>
            <a:ext cx="4647960" cy="1085760"/>
            <a:chOff x="2152800" y="3181320"/>
            <a:chExt cx="4647960" cy="1085760"/>
          </a:xfrm>
        </p:grpSpPr>
        <p:sp>
          <p:nvSpPr>
            <p:cNvPr id="518" name="Rectangle 55"/>
            <p:cNvSpPr/>
            <p:nvPr/>
          </p:nvSpPr>
          <p:spPr>
            <a:xfrm>
              <a:off x="2152800" y="3181320"/>
              <a:ext cx="4647960" cy="9144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Text Box 34"/>
            <p:cNvSpPr/>
            <p:nvPr/>
          </p:nvSpPr>
          <p:spPr>
            <a:xfrm>
              <a:off x="2351160" y="3276720"/>
              <a:ext cx="4260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upervisory-Level Managers (Supervisors/Manager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Line 58"/>
            <p:cNvSpPr/>
            <p:nvPr/>
          </p:nvSpPr>
          <p:spPr>
            <a:xfrm>
              <a:off x="4362480" y="4114800"/>
              <a:ext cx="0" cy="152280"/>
            </a:xfrm>
            <a:prstGeom prst="line">
              <a:avLst/>
            </a:prstGeom>
            <a:ln w="381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7884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.M.s Must Manage: G.M.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2" name=""/>
          <p:cNvGraphicFramePr/>
          <p:nvPr/>
        </p:nvGraphicFramePr>
        <p:xfrm>
          <a:off x="380880" y="933480"/>
          <a:ext cx="8458200" cy="4954680"/>
        </p:xfrm>
        <a:graphic>
          <a:graphicData uri="http://schemas.openxmlformats.org/drawingml/2006/table">
            <a:tbl>
              <a:tblPr/>
              <a:tblGrid>
                <a:gridCol w="1905120"/>
                <a:gridCol w="655308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Management     Fun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33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Examples of activity: Working with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department head (if applicable) to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3300"/>
                        </a:gs>
                      </a:gsLst>
                      <a:lin ang="5400000"/>
                    </a:gradFill>
                  </a:tcPr>
                </a:tc>
              </a:tr>
              <a:tr h="68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n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velop an operating budget or a marketing pl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80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aniz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sign responsibilities for an upcoming banquet or conference e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  <a:tr h="57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ff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ruit, select, orient and train new department hea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ervise the work of department hea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oll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e corrective action(s) when budgeted financial plans are not attain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alua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sess the extent to which long- and short-range plans were attain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Group 86"/>
          <p:cNvGrpSpPr/>
          <p:nvPr/>
        </p:nvGrpSpPr>
        <p:grpSpPr>
          <a:xfrm>
            <a:off x="4624920" y="3577680"/>
            <a:ext cx="4366800" cy="2521080"/>
            <a:chOff x="4624920" y="3577680"/>
            <a:chExt cx="4366800" cy="2521080"/>
          </a:xfrm>
        </p:grpSpPr>
        <p:sp>
          <p:nvSpPr>
            <p:cNvPr id="524" name="AutoShape 39"/>
            <p:cNvSpPr/>
            <p:nvPr/>
          </p:nvSpPr>
          <p:spPr>
            <a:xfrm rot="10794600">
              <a:off x="4626720" y="3580560"/>
              <a:ext cx="4038840" cy="2514600"/>
            </a:xfrm>
            <a:custGeom>
              <a:avLst/>
              <a:gdLst>
                <a:gd name="textAreaLeft" fmla="*/ 0 w 4038840"/>
                <a:gd name="textAreaRight" fmla="*/ 4039200 w 4038840"/>
                <a:gd name="textAreaTop" fmla="*/ 0 h 2514600"/>
                <a:gd name="textAreaBottom" fmla="*/ 251496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Text Box 59"/>
            <p:cNvSpPr/>
            <p:nvPr/>
          </p:nvSpPr>
          <p:spPr>
            <a:xfrm>
              <a:off x="5391000" y="4022640"/>
              <a:ext cx="31244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bility to perform management-specific aspects of the jo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Text Box 60"/>
            <p:cNvSpPr/>
            <p:nvPr/>
          </p:nvSpPr>
          <p:spPr>
            <a:xfrm>
              <a:off x="5410080" y="5013360"/>
              <a:ext cx="35816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orecasting guest demand for rooms and establishing room    rates, etc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7" name="Picture 61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5181480" y="4133880"/>
              <a:ext cx="304920" cy="2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8" name="Picture 62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5181480" y="5105520"/>
              <a:ext cx="304920" cy="22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9" name="Group 77"/>
          <p:cNvGrpSpPr/>
          <p:nvPr/>
        </p:nvGrpSpPr>
        <p:grpSpPr>
          <a:xfrm>
            <a:off x="4627440" y="930240"/>
            <a:ext cx="4042440" cy="2578320"/>
            <a:chOff x="4627440" y="930240"/>
            <a:chExt cx="4042440" cy="2578320"/>
          </a:xfrm>
        </p:grpSpPr>
        <p:sp>
          <p:nvSpPr>
            <p:cNvPr id="530" name="AutoShape 36"/>
            <p:cNvSpPr/>
            <p:nvPr/>
          </p:nvSpPr>
          <p:spPr>
            <a:xfrm rot="10794600">
              <a:off x="4629240" y="933120"/>
              <a:ext cx="4038480" cy="2571840"/>
            </a:xfrm>
            <a:custGeom>
              <a:avLst/>
              <a:gdLst>
                <a:gd name="textAreaLeft" fmla="*/ 0 w 4038480"/>
                <a:gd name="textAreaRight" fmla="*/ 4038840 w 4038480"/>
                <a:gd name="textAreaTop" fmla="*/ 0 h 2571840"/>
                <a:gd name="textAreaBottom" fmla="*/ 2572200 h 2571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Text Box 53"/>
            <p:cNvSpPr/>
            <p:nvPr/>
          </p:nvSpPr>
          <p:spPr>
            <a:xfrm>
              <a:off x="5410080" y="1379520"/>
              <a:ext cx="31244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bility to understand and interact well with guests, employees, suppliers, etc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2" name="Picture 54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5200560" y="1469880"/>
              <a:ext cx="304920" cy="21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3" name="Group 85"/>
          <p:cNvGrpSpPr/>
          <p:nvPr/>
        </p:nvGrpSpPr>
        <p:grpSpPr>
          <a:xfrm>
            <a:off x="304920" y="3581280"/>
            <a:ext cx="4038480" cy="2514600"/>
            <a:chOff x="304920" y="3581280"/>
            <a:chExt cx="4038480" cy="2514600"/>
          </a:xfrm>
        </p:grpSpPr>
        <p:sp>
          <p:nvSpPr>
            <p:cNvPr id="534" name="AutoShape 38"/>
            <p:cNvSpPr/>
            <p:nvPr/>
          </p:nvSpPr>
          <p:spPr>
            <a:xfrm>
              <a:off x="304920" y="3581280"/>
              <a:ext cx="4038480" cy="2514600"/>
            </a:xfrm>
            <a:custGeom>
              <a:avLst/>
              <a:gdLst>
                <a:gd name="textAreaLeft" fmla="*/ 0 w 4038480"/>
                <a:gd name="textAreaRight" fmla="*/ 4038840 w 4038480"/>
                <a:gd name="textAreaTop" fmla="*/ 0 h 2514600"/>
                <a:gd name="textAreaBottom" fmla="*/ 251496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Text Box 55"/>
            <p:cNvSpPr/>
            <p:nvPr/>
          </p:nvSpPr>
          <p:spPr>
            <a:xfrm>
              <a:off x="514440" y="4022640"/>
              <a:ext cx="3124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bility to organize and direct required work effo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Text Box 56"/>
            <p:cNvSpPr/>
            <p:nvPr/>
          </p:nvSpPr>
          <p:spPr>
            <a:xfrm>
              <a:off x="495360" y="4822920"/>
              <a:ext cx="35812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bility to develop policies and operating procedures necessary for guest saf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7" name="Picture 57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304920" y="4133880"/>
              <a:ext cx="304560" cy="2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8" name="Picture 58" descr="C:\Documents and Settings\Microlabs\Application Data\Microsoft\Media Catalog\Downloaded Clips\cl0\BS00023_.wmf"/>
            <p:cNvPicPr/>
            <p:nvPr/>
          </p:nvPicPr>
          <p:blipFill>
            <a:blip r:embed="rId5"/>
            <a:stretch/>
          </p:blipFill>
          <p:spPr>
            <a:xfrm>
              <a:off x="304920" y="4952880"/>
              <a:ext cx="304560" cy="225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9" name="Group 75"/>
          <p:cNvGrpSpPr/>
          <p:nvPr/>
        </p:nvGrpSpPr>
        <p:grpSpPr>
          <a:xfrm>
            <a:off x="380880" y="914400"/>
            <a:ext cx="4190760" cy="2571840"/>
            <a:chOff x="380880" y="914400"/>
            <a:chExt cx="4190760" cy="2571840"/>
          </a:xfrm>
        </p:grpSpPr>
        <p:sp>
          <p:nvSpPr>
            <p:cNvPr id="540" name="AutoShape 28"/>
            <p:cNvSpPr/>
            <p:nvPr/>
          </p:nvSpPr>
          <p:spPr>
            <a:xfrm>
              <a:off x="380880" y="914400"/>
              <a:ext cx="4190760" cy="2571840"/>
            </a:xfrm>
            <a:custGeom>
              <a:avLst/>
              <a:gdLst>
                <a:gd name="textAreaLeft" fmla="*/ 0 w 4190760"/>
                <a:gd name="textAreaRight" fmla="*/ 4191120 w 4190760"/>
                <a:gd name="textAreaTop" fmla="*/ 0 h 2571840"/>
                <a:gd name="textAreaBottom" fmla="*/ 2572200 h 2571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Text Box 49"/>
            <p:cNvSpPr/>
            <p:nvPr/>
          </p:nvSpPr>
          <p:spPr>
            <a:xfrm>
              <a:off x="597960" y="1390680"/>
              <a:ext cx="3241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bility to collect, interpret, and use information logicall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2" name="Picture 50" descr="C:\Documents and Settings\Microlabs\Application Data\Microsoft\Media Catalog\Downloaded Clips\cl0\BS00023_.wmf"/>
            <p:cNvPicPr/>
            <p:nvPr/>
          </p:nvPicPr>
          <p:blipFill>
            <a:blip r:embed="rId6"/>
            <a:stretch/>
          </p:blipFill>
          <p:spPr>
            <a:xfrm>
              <a:off x="380880" y="1485720"/>
              <a:ext cx="31572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3" name="Text Box 51"/>
            <p:cNvSpPr/>
            <p:nvPr/>
          </p:nvSpPr>
          <p:spPr>
            <a:xfrm>
              <a:off x="538560" y="2171520"/>
              <a:ext cx="37162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earning about a new, competing hotel opening nearby and making future marketing decisions accordingl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4" name="Picture 52" descr="C:\Documents and Settings\Microlabs\Application Data\Microsoft\Media Catalog\Downloaded Clips\cl0\BS00023_.wmf"/>
            <p:cNvPicPr/>
            <p:nvPr/>
          </p:nvPicPr>
          <p:blipFill>
            <a:blip r:embed="rId7"/>
            <a:stretch/>
          </p:blipFill>
          <p:spPr>
            <a:xfrm>
              <a:off x="380880" y="2247840"/>
              <a:ext cx="3157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7884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.M.s Must Manage: G.M. Sk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14440" y="81900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40"/>
          <p:cNvSpPr/>
          <p:nvPr/>
        </p:nvSpPr>
        <p:spPr>
          <a:xfrm>
            <a:off x="324000" y="933480"/>
            <a:ext cx="304776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oncep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46"/>
          <p:cNvSpPr/>
          <p:nvPr/>
        </p:nvSpPr>
        <p:spPr>
          <a:xfrm>
            <a:off x="5638680" y="952560"/>
            <a:ext cx="304812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nterpers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47"/>
          <p:cNvSpPr/>
          <p:nvPr/>
        </p:nvSpPr>
        <p:spPr>
          <a:xfrm>
            <a:off x="304920" y="3600360"/>
            <a:ext cx="304776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dministr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48"/>
          <p:cNvSpPr/>
          <p:nvPr/>
        </p:nvSpPr>
        <p:spPr>
          <a:xfrm>
            <a:off x="5638680" y="3600360"/>
            <a:ext cx="304812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Group 87"/>
          <p:cNvGrpSpPr/>
          <p:nvPr/>
        </p:nvGrpSpPr>
        <p:grpSpPr>
          <a:xfrm>
            <a:off x="3600360" y="2971800"/>
            <a:ext cx="1828800" cy="1295280"/>
            <a:chOff x="3600360" y="2971800"/>
            <a:chExt cx="1828800" cy="1295280"/>
          </a:xfrm>
        </p:grpSpPr>
        <p:sp>
          <p:nvSpPr>
            <p:cNvPr id="552" name="Oval 83"/>
            <p:cNvSpPr/>
            <p:nvPr/>
          </p:nvSpPr>
          <p:spPr>
            <a:xfrm>
              <a:off x="3600360" y="2971800"/>
              <a:ext cx="1828800" cy="12952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Text Box 82"/>
            <p:cNvSpPr/>
            <p:nvPr/>
          </p:nvSpPr>
          <p:spPr>
            <a:xfrm>
              <a:off x="3943440" y="333360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kill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Group 74"/>
          <p:cNvGrpSpPr/>
          <p:nvPr/>
        </p:nvGrpSpPr>
        <p:grpSpPr>
          <a:xfrm>
            <a:off x="152280" y="3276720"/>
            <a:ext cx="4419720" cy="1980720"/>
            <a:chOff x="152280" y="3276720"/>
            <a:chExt cx="4419720" cy="1980720"/>
          </a:xfrm>
        </p:grpSpPr>
        <p:sp>
          <p:nvSpPr>
            <p:cNvPr id="555" name="AutoShape 46"/>
            <p:cNvSpPr/>
            <p:nvPr/>
          </p:nvSpPr>
          <p:spPr>
            <a:xfrm>
              <a:off x="152280" y="3276720"/>
              <a:ext cx="3733920" cy="198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Text Box 64"/>
            <p:cNvSpPr/>
            <p:nvPr/>
          </p:nvSpPr>
          <p:spPr>
            <a:xfrm>
              <a:off x="419040" y="3730320"/>
              <a:ext cx="4152960" cy="12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Joining professional business and community service organiz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eeting with community   government representativ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7" name="Picture 65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190440" y="3771720"/>
              <a:ext cx="304920" cy="24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8" name="Picture 66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190440" y="4349880"/>
              <a:ext cx="304920" cy="244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9" name="Group 75"/>
          <p:cNvGrpSpPr/>
          <p:nvPr/>
        </p:nvGrpSpPr>
        <p:grpSpPr>
          <a:xfrm>
            <a:off x="5276880" y="3143160"/>
            <a:ext cx="3733920" cy="1828800"/>
            <a:chOff x="5276880" y="3143160"/>
            <a:chExt cx="3733920" cy="1828800"/>
          </a:xfrm>
        </p:grpSpPr>
        <p:sp>
          <p:nvSpPr>
            <p:cNvPr id="560" name="AutoShape 61"/>
            <p:cNvSpPr/>
            <p:nvPr/>
          </p:nvSpPr>
          <p:spPr>
            <a:xfrm>
              <a:off x="5276880" y="3143160"/>
              <a:ext cx="3733920" cy="1828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Text Box 68"/>
            <p:cNvSpPr/>
            <p:nvPr/>
          </p:nvSpPr>
          <p:spPr>
            <a:xfrm>
              <a:off x="5715000" y="3562200"/>
              <a:ext cx="3238560" cy="12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articipating in          community social ev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ttending school &amp; athletic      events with their childr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2" name="Picture 69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5448240" y="3600360"/>
              <a:ext cx="304920" cy="2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3" name="Picture 70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5448240" y="4248000"/>
              <a:ext cx="304920" cy="22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4" name="Group 72"/>
          <p:cNvGrpSpPr/>
          <p:nvPr/>
        </p:nvGrpSpPr>
        <p:grpSpPr>
          <a:xfrm>
            <a:off x="152280" y="1028880"/>
            <a:ext cx="3733920" cy="1828800"/>
            <a:chOff x="152280" y="1028880"/>
            <a:chExt cx="3733920" cy="1828800"/>
          </a:xfrm>
        </p:grpSpPr>
        <p:sp>
          <p:nvSpPr>
            <p:cNvPr id="565" name="AutoShape 40"/>
            <p:cNvSpPr/>
            <p:nvPr/>
          </p:nvSpPr>
          <p:spPr>
            <a:xfrm>
              <a:off x="152280" y="1028880"/>
              <a:ext cx="3733920" cy="1828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Text Box 55"/>
            <p:cNvSpPr/>
            <p:nvPr/>
          </p:nvSpPr>
          <p:spPr>
            <a:xfrm>
              <a:off x="647640" y="1409760"/>
              <a:ext cx="2971800" cy="13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esterday: dictatorial leadership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oday: facilit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omorrow: empower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7" name="Picture 56" descr="C:\Documents and Settings\Microlabs\Application Data\Microsoft\Media Catalog\Downloaded Clips\cl0\BS00023_.wmf"/>
            <p:cNvPicPr/>
            <p:nvPr/>
          </p:nvPicPr>
          <p:blipFill>
            <a:blip r:embed="rId5"/>
            <a:stretch/>
          </p:blipFill>
          <p:spPr>
            <a:xfrm>
              <a:off x="266760" y="1543320"/>
              <a:ext cx="304920" cy="2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8" name="Picture 57" descr="C:\Documents and Settings\Microlabs\Application Data\Microsoft\Media Catalog\Downloaded Clips\cl0\BS00023_.wmf"/>
            <p:cNvPicPr/>
            <p:nvPr/>
          </p:nvPicPr>
          <p:blipFill>
            <a:blip r:embed="rId6"/>
            <a:stretch/>
          </p:blipFill>
          <p:spPr>
            <a:xfrm>
              <a:off x="266760" y="2076480"/>
              <a:ext cx="304920" cy="22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9" name="Picture 58" descr="C:\Documents and Settings\Microlabs\Application Data\Microsoft\Media Catalog\Downloaded Clips\cl0\BS00023_.wmf"/>
            <p:cNvPicPr/>
            <p:nvPr/>
          </p:nvPicPr>
          <p:blipFill>
            <a:blip r:embed="rId7"/>
            <a:stretch/>
          </p:blipFill>
          <p:spPr>
            <a:xfrm>
              <a:off x="285840" y="2457720"/>
              <a:ext cx="304560" cy="22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0" name="Group 73"/>
          <p:cNvGrpSpPr/>
          <p:nvPr/>
        </p:nvGrpSpPr>
        <p:grpSpPr>
          <a:xfrm>
            <a:off x="5315040" y="1028880"/>
            <a:ext cx="3733560" cy="1828800"/>
            <a:chOff x="5315040" y="1028880"/>
            <a:chExt cx="3733560" cy="1828800"/>
          </a:xfrm>
        </p:grpSpPr>
        <p:sp>
          <p:nvSpPr>
            <p:cNvPr id="571" name="AutoShape 48"/>
            <p:cNvSpPr/>
            <p:nvPr/>
          </p:nvSpPr>
          <p:spPr>
            <a:xfrm>
              <a:off x="5315040" y="1028880"/>
              <a:ext cx="3733560" cy="1828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Text Box 59"/>
            <p:cNvSpPr/>
            <p:nvPr/>
          </p:nvSpPr>
          <p:spPr>
            <a:xfrm>
              <a:off x="5772240" y="1676520"/>
              <a:ext cx="314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nage by walking around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3" name="Picture 60" descr="C:\Documents and Settings\Microlabs\Application Data\Microsoft\Media Catalog\Downloaded Clips\cl0\BS00023_.wmf"/>
            <p:cNvPicPr/>
            <p:nvPr/>
          </p:nvPicPr>
          <p:blipFill>
            <a:blip r:embed="rId8"/>
            <a:stretch/>
          </p:blipFill>
          <p:spPr>
            <a:xfrm>
              <a:off x="5505480" y="1771920"/>
              <a:ext cx="3049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440" y="78840"/>
            <a:ext cx="80773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.M.s Must Manage: G.M.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Group 76"/>
          <p:cNvGrpSpPr/>
          <p:nvPr/>
        </p:nvGrpSpPr>
        <p:grpSpPr>
          <a:xfrm>
            <a:off x="3962520" y="2666880"/>
            <a:ext cx="1218960" cy="1143000"/>
            <a:chOff x="3962520" y="2666880"/>
            <a:chExt cx="1218960" cy="1143000"/>
          </a:xfrm>
        </p:grpSpPr>
        <p:sp>
          <p:nvSpPr>
            <p:cNvPr id="576" name="Oval 44"/>
            <p:cNvSpPr/>
            <p:nvPr/>
          </p:nvSpPr>
          <p:spPr>
            <a:xfrm>
              <a:off x="3962520" y="2666880"/>
              <a:ext cx="1218960" cy="11430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Text Box 45"/>
            <p:cNvSpPr/>
            <p:nvPr/>
          </p:nvSpPr>
          <p:spPr>
            <a:xfrm>
              <a:off x="4133880" y="300996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G.M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Text Box 50"/>
          <p:cNvSpPr/>
          <p:nvPr/>
        </p:nvSpPr>
        <p:spPr>
          <a:xfrm>
            <a:off x="152280" y="933480"/>
            <a:ext cx="375300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taff me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51"/>
          <p:cNvSpPr/>
          <p:nvPr/>
        </p:nvSpPr>
        <p:spPr>
          <a:xfrm>
            <a:off x="5315040" y="971640"/>
            <a:ext cx="375264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Other hotel employ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52"/>
          <p:cNvSpPr/>
          <p:nvPr/>
        </p:nvSpPr>
        <p:spPr>
          <a:xfrm>
            <a:off x="152280" y="2971800"/>
            <a:ext cx="373392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xternal orga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53"/>
          <p:cNvSpPr/>
          <p:nvPr/>
        </p:nvSpPr>
        <p:spPr>
          <a:xfrm>
            <a:off x="5295960" y="2971800"/>
            <a:ext cx="373392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Others in comm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2" name="Group 78"/>
          <p:cNvGrpSpPr/>
          <p:nvPr/>
        </p:nvGrpSpPr>
        <p:grpSpPr>
          <a:xfrm>
            <a:off x="2971800" y="5029200"/>
            <a:ext cx="3505320" cy="1143000"/>
            <a:chOff x="2971800" y="5029200"/>
            <a:chExt cx="3505320" cy="1143000"/>
          </a:xfrm>
        </p:grpSpPr>
        <p:sp>
          <p:nvSpPr>
            <p:cNvPr id="583" name="AutoShape 49"/>
            <p:cNvSpPr/>
            <p:nvPr/>
          </p:nvSpPr>
          <p:spPr>
            <a:xfrm>
              <a:off x="2971800" y="5029200"/>
              <a:ext cx="3505320" cy="1143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Text Box 62"/>
            <p:cNvSpPr/>
            <p:nvPr/>
          </p:nvSpPr>
          <p:spPr>
            <a:xfrm>
              <a:off x="3314880" y="5484600"/>
              <a:ext cx="314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ow the hotel can meet and exceed guest expect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5" name="Picture 63" descr="C:\Documents and Settings\Microlabs\Application Data\Microsoft\Media Catalog\Downloaded Clips\cl0\BS00023_.wmf"/>
            <p:cNvPicPr/>
            <p:nvPr/>
          </p:nvPicPr>
          <p:blipFill>
            <a:blip r:embed="rId9"/>
            <a:stretch/>
          </p:blipFill>
          <p:spPr>
            <a:xfrm>
              <a:off x="3029040" y="5562360"/>
              <a:ext cx="304920" cy="225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6" name="Text Box 54"/>
          <p:cNvSpPr/>
          <p:nvPr/>
        </p:nvSpPr>
        <p:spPr>
          <a:xfrm>
            <a:off x="2971800" y="5029200"/>
            <a:ext cx="352440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Gu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440" y="21276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.M.s Must Manage:                          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.M. Manage in Times of 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31"/>
          <p:cNvSpPr/>
          <p:nvPr/>
        </p:nvSpPr>
        <p:spPr>
          <a:xfrm>
            <a:off x="685800" y="133344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ve to their counterparts “yesterday” G.M.s m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Group 75"/>
          <p:cNvGrpSpPr/>
          <p:nvPr/>
        </p:nvGrpSpPr>
        <p:grpSpPr>
          <a:xfrm>
            <a:off x="407880" y="1828800"/>
            <a:ext cx="8354880" cy="533520"/>
            <a:chOff x="407880" y="1828800"/>
            <a:chExt cx="8354880" cy="533520"/>
          </a:xfrm>
        </p:grpSpPr>
        <p:sp>
          <p:nvSpPr>
            <p:cNvPr id="590" name="Rectangle 71"/>
            <p:cNvSpPr/>
            <p:nvPr/>
          </p:nvSpPr>
          <p:spPr>
            <a:xfrm>
              <a:off x="407880" y="1828800"/>
              <a:ext cx="8354880" cy="5335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Text Box 34"/>
            <p:cNvSpPr/>
            <p:nvPr/>
          </p:nvSpPr>
          <p:spPr>
            <a:xfrm>
              <a:off x="579240" y="1900080"/>
              <a:ext cx="760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Interact with a more diverse workforce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2" name="Picture 35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484200" y="1900080"/>
              <a:ext cx="539640" cy="373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3" name="Group 76"/>
          <p:cNvGrpSpPr/>
          <p:nvPr/>
        </p:nvGrpSpPr>
        <p:grpSpPr>
          <a:xfrm>
            <a:off x="407880" y="2438280"/>
            <a:ext cx="8354880" cy="533520"/>
            <a:chOff x="407880" y="2438280"/>
            <a:chExt cx="8354880" cy="533520"/>
          </a:xfrm>
        </p:grpSpPr>
        <p:sp>
          <p:nvSpPr>
            <p:cNvPr id="594" name="Rectangle 70"/>
            <p:cNvSpPr/>
            <p:nvPr/>
          </p:nvSpPr>
          <p:spPr>
            <a:xfrm>
              <a:off x="407880" y="2438280"/>
              <a:ext cx="8354880" cy="5335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Text Box 39"/>
            <p:cNvSpPr/>
            <p:nvPr/>
          </p:nvSpPr>
          <p:spPr>
            <a:xfrm>
              <a:off x="552240" y="2438280"/>
              <a:ext cx="805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Emphasize teams rather than individual perform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6" name="Picture 40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457200" y="2498760"/>
              <a:ext cx="539640" cy="29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7" name="Group 77"/>
          <p:cNvGrpSpPr/>
          <p:nvPr/>
        </p:nvGrpSpPr>
        <p:grpSpPr>
          <a:xfrm>
            <a:off x="407880" y="3067200"/>
            <a:ext cx="8354880" cy="533160"/>
            <a:chOff x="407880" y="3067200"/>
            <a:chExt cx="8354880" cy="533160"/>
          </a:xfrm>
        </p:grpSpPr>
        <p:sp>
          <p:nvSpPr>
            <p:cNvPr id="598" name="Rectangle 69"/>
            <p:cNvSpPr/>
            <p:nvPr/>
          </p:nvSpPr>
          <p:spPr>
            <a:xfrm>
              <a:off x="407880" y="3067200"/>
              <a:ext cx="8354880" cy="5331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Text Box 44"/>
            <p:cNvSpPr/>
            <p:nvPr/>
          </p:nvSpPr>
          <p:spPr>
            <a:xfrm>
              <a:off x="552240" y="3138120"/>
              <a:ext cx="760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Cope with fast-paced technology chang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0" name="Picture 45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457200" y="3138120"/>
              <a:ext cx="539640" cy="37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1" name="Group 79"/>
          <p:cNvGrpSpPr/>
          <p:nvPr/>
        </p:nvGrpSpPr>
        <p:grpSpPr>
          <a:xfrm>
            <a:off x="407880" y="4343400"/>
            <a:ext cx="8354880" cy="533520"/>
            <a:chOff x="407880" y="4343400"/>
            <a:chExt cx="8354880" cy="533520"/>
          </a:xfrm>
        </p:grpSpPr>
        <p:sp>
          <p:nvSpPr>
            <p:cNvPr id="602" name="Rectangle 72"/>
            <p:cNvSpPr/>
            <p:nvPr/>
          </p:nvSpPr>
          <p:spPr>
            <a:xfrm>
              <a:off x="407880" y="4343400"/>
              <a:ext cx="8354880" cy="5335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Text Box 56"/>
            <p:cNvSpPr/>
            <p:nvPr/>
          </p:nvSpPr>
          <p:spPr>
            <a:xfrm>
              <a:off x="579240" y="4395960"/>
              <a:ext cx="760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React to global challenges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4" name="Picture 57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484200" y="4395960"/>
              <a:ext cx="539640" cy="37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5" name="Group 80"/>
          <p:cNvGrpSpPr/>
          <p:nvPr/>
        </p:nvGrpSpPr>
        <p:grpSpPr>
          <a:xfrm>
            <a:off x="407880" y="4971960"/>
            <a:ext cx="8354880" cy="533160"/>
            <a:chOff x="407880" y="4971960"/>
            <a:chExt cx="8354880" cy="533160"/>
          </a:xfrm>
        </p:grpSpPr>
        <p:sp>
          <p:nvSpPr>
            <p:cNvPr id="606" name="Rectangle 73"/>
            <p:cNvSpPr/>
            <p:nvPr/>
          </p:nvSpPr>
          <p:spPr>
            <a:xfrm>
              <a:off x="407880" y="4971960"/>
              <a:ext cx="8354880" cy="5331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Text Box 60"/>
            <p:cNvSpPr/>
            <p:nvPr/>
          </p:nvSpPr>
          <p:spPr>
            <a:xfrm>
              <a:off x="579240" y="5005080"/>
              <a:ext cx="760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Improve quality while increasing productivity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8" name="Picture 61" descr="C:\Documents and Settings\Microlabs\Application Data\Microsoft\Media Catalog\Downloaded Clips\cl0\BS00023_.wmf"/>
            <p:cNvPicPr/>
            <p:nvPr/>
          </p:nvPicPr>
          <p:blipFill>
            <a:blip r:embed="rId5"/>
            <a:stretch/>
          </p:blipFill>
          <p:spPr>
            <a:xfrm>
              <a:off x="484200" y="5005080"/>
              <a:ext cx="539640" cy="373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9" name="Group 81"/>
          <p:cNvGrpSpPr/>
          <p:nvPr/>
        </p:nvGrpSpPr>
        <p:grpSpPr>
          <a:xfrm>
            <a:off x="407880" y="5600880"/>
            <a:ext cx="8354880" cy="533160"/>
            <a:chOff x="407880" y="5600880"/>
            <a:chExt cx="8354880" cy="533160"/>
          </a:xfrm>
        </p:grpSpPr>
        <p:sp>
          <p:nvSpPr>
            <p:cNvPr id="610" name="Rectangle 74"/>
            <p:cNvSpPr/>
            <p:nvPr/>
          </p:nvSpPr>
          <p:spPr>
            <a:xfrm>
              <a:off x="407880" y="5600880"/>
              <a:ext cx="8354880" cy="5331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Text Box 66"/>
            <p:cNvSpPr/>
            <p:nvPr/>
          </p:nvSpPr>
          <p:spPr>
            <a:xfrm>
              <a:off x="579240" y="5616360"/>
              <a:ext cx="760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Improve ethical / social behavior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2" name="Picture 67" descr="C:\Documents and Settings\Microlabs\Application Data\Microsoft\Media Catalog\Downloaded Clips\cl0\BS00023_.wmf"/>
            <p:cNvPicPr/>
            <p:nvPr/>
          </p:nvPicPr>
          <p:blipFill>
            <a:blip r:embed="rId6"/>
            <a:stretch/>
          </p:blipFill>
          <p:spPr>
            <a:xfrm>
              <a:off x="484200" y="5616360"/>
              <a:ext cx="539640" cy="372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3" name="Group 78"/>
          <p:cNvGrpSpPr/>
          <p:nvPr/>
        </p:nvGrpSpPr>
        <p:grpSpPr>
          <a:xfrm>
            <a:off x="407880" y="3733920"/>
            <a:ext cx="8659800" cy="533160"/>
            <a:chOff x="407880" y="3733920"/>
            <a:chExt cx="8659800" cy="533160"/>
          </a:xfrm>
        </p:grpSpPr>
        <p:sp>
          <p:nvSpPr>
            <p:cNvPr id="614" name="Rectangle 33"/>
            <p:cNvSpPr/>
            <p:nvPr/>
          </p:nvSpPr>
          <p:spPr>
            <a:xfrm>
              <a:off x="407880" y="3733920"/>
              <a:ext cx="8354880" cy="5331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Text Box 52"/>
            <p:cNvSpPr/>
            <p:nvPr/>
          </p:nvSpPr>
          <p:spPr>
            <a:xfrm>
              <a:off x="579240" y="3733920"/>
              <a:ext cx="848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Adjust to workplace changes (e.g., re-engineering, downsizing)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6" name="Picture 53" descr="C:\Documents and Settings\Microlabs\Application Data\Microsoft\Media Catalog\Downloaded Clips\cl0\BS00023_.wmf"/>
            <p:cNvPicPr/>
            <p:nvPr/>
          </p:nvPicPr>
          <p:blipFill>
            <a:blip r:embed="rId7"/>
            <a:stretch/>
          </p:blipFill>
          <p:spPr>
            <a:xfrm>
              <a:off x="484200" y="3809880"/>
              <a:ext cx="539640" cy="37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Text Box 68"/>
            <p:cNvSpPr/>
            <p:nvPr/>
          </p:nvSpPr>
          <p:spPr>
            <a:xfrm>
              <a:off x="579240" y="3733920"/>
              <a:ext cx="84884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95000" y="78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volution of Traditional Hotel H.R. Pract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152280" y="1066680"/>
          <a:ext cx="8839440" cy="5029200"/>
        </p:xfrm>
        <a:graphic>
          <a:graphicData uri="http://schemas.openxmlformats.org/drawingml/2006/table">
            <a:tbl>
              <a:tblPr/>
              <a:tblGrid>
                <a:gridCol w="4343400"/>
                <a:gridCol w="4496040"/>
              </a:tblGrid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Tradit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33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Contempor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3300"/>
                        </a:gs>
                      </a:gsLst>
                      <a:lin ang="5400000"/>
                    </a:gradFill>
                  </a:tcPr>
                </a:tc>
              </a:tr>
              <a:tr h="39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nager-focused work un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am-focused work un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nager is domin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nager is suppor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phasis on technical sk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phasis on employee facilitation sk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398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nager seeks st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nager encourages ch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nager tells and sells personal vie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nager liste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nager personally responsible for resul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nager shares responsibility for resul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  <a:tr h="40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nager personally solves probl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am problem-solving is employ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ar and pressure used to motivate sta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de, recognition, and growth are used to motivate sta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  <a:tr h="400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tocratic (dictatorial) decision sty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icipative decision sty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vidual behavi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am behavi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95000" y="174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volution of Traditional Hotel H.R. Practices (continued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1" name=""/>
          <p:cNvGraphicFramePr/>
          <p:nvPr/>
        </p:nvGraphicFramePr>
        <p:xfrm>
          <a:off x="152280" y="1371600"/>
          <a:ext cx="8839440" cy="4572000"/>
        </p:xfrm>
        <a:graphic>
          <a:graphicData uri="http://schemas.openxmlformats.org/drawingml/2006/table">
            <a:tbl>
              <a:tblPr/>
              <a:tblGrid>
                <a:gridCol w="4343400"/>
                <a:gridCol w="4496040"/>
              </a:tblGrid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Tradit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33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Contempor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3300"/>
                        </a:gs>
                      </a:gsLst>
                      <a:lin ang="5400000"/>
                    </a:gradFill>
                  </a:tcPr>
                </a:tc>
              </a:tr>
              <a:tr h="425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.M. forces compli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.M. earns the team’s sup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at one says is inconsistent with what one d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at one says is consistent with what one d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  <a:tr h="425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consistent “moments of truth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istent “moments of truth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ctive management/supervision sty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active management/supervision sty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  <a:tr h="42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reaucratic “rituals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exible routi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p down – one way commun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-directional commun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  <a:tr h="42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erarchy of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power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ens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ort-term H.R. strateg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ng-term H.R. strateg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01:20:45Z</dcterms:created>
  <dc:creator>Microlabs</dc:creator>
  <dc:description/>
  <dc:language>en-US</dc:language>
  <cp:lastModifiedBy>robert</cp:lastModifiedBy>
  <dcterms:modified xsi:type="dcterms:W3CDTF">2011-04-11T09:54:57Z</dcterms:modified>
  <cp:revision>104</cp:revision>
  <dc:subject/>
  <dc:title>The G.M. Sets the Pace</dc:title>
</cp:coreProperties>
</file>